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828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17520" y="-360"/>
            <a:ext cx="290196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33640" y="679320"/>
            <a:ext cx="462744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41040" y="4452480"/>
            <a:ext cx="50166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29360"/>
            <a:ext cx="297828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17520" y="8829360"/>
            <a:ext cx="290196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39C4AD-0173-48F8-9D50-2BDA61B4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3364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41040" y="4452480"/>
            <a:ext cx="50166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Assessment: High, Med,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on Approach: High, Med,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igation Pla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– Emphasize Strengt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– Mitigate Weak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CS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– Neutralize Competitor’s Strengt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HCW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– Highlight Competitor’s Weak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3364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41040" y="4452480"/>
            <a:ext cx="50166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Summary Info: Complete all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131-0F73-479D-AB4D-A9735B5D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15F-BFDD-42A5-8FF3-199F201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57A-9CBE-4FA2-9A26-D3433ADD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F30-1793-475F-B6B2-12A16005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E231-965D-407E-A028-0BA38F8E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F02C-C0F1-4102-91FC-679E0729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166E-1745-4405-8F8A-A3F2DDB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144-250B-4270-87EB-984BCEB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9CA-C68D-4F5A-941F-A8ECD94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7B05-0806-4512-8A70-6263C5E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DDC4-2497-4C8F-8466-E7AE9B68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A73-EA53-4BC2-88D6-9590692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F4C-A332-4E49-B8F5-D475F9E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6A1A-3B9F-4607-8E9E-66A2202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ACC9-4EA8-45CE-806E-9119D786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8BA-784D-4D85-BEB9-192A3EE2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BB7F-2481-4BF4-9D49-583F627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01F-3C80-464C-98B8-B18EF8E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537-2EAF-4A87-99AB-1B85A80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930-2817-4A3F-81D6-4B4EAA61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2ED-40A5-404C-BEC4-635B8011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A4-55B5-4ACB-BBCD-16E0D59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051-D230-4DC2-B7D1-8C0C4F2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B1D-5634-4B2E-8648-0FB3934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62000"/>
            <a:ext cx="9145440" cy="52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14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E6B-1667-4EE1-919A-D0D4DCBF63E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94160" y="6515280"/>
            <a:ext cx="194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anTech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33920" y="2054160"/>
            <a:ext cx="3610080" cy="427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321600"/>
            <a:ext cx="914544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59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14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1625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4B3-901B-40E7-B887-3BB546292F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NATO/Afghanistan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Long Term SatCom Servi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3000" y="5067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June 28,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89200" y="6019920"/>
            <a:ext cx="21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ManTech Propri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71560" y="88920"/>
            <a:ext cx="21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ManTech Propri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BB2-9C50-43D6-B530-5EA8437BD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04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600200" y="187956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ca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ow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e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r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3 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M IS&amp;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Sk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5" name=""/>
          <p:cNvSpPr/>
          <p:nvPr/>
        </p:nvSpPr>
        <p:spPr>
          <a:xfrm>
            <a:off x="1333800" y="853920"/>
            <a:ext cx="65862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.S. Fir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C8F-8059-41B2-BF1E-B686534BC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1364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siness Analysis &amp; Risk Assess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28600" y="1133640"/>
          <a:ext cx="8686800" cy="2823840"/>
        </p:xfrm>
        <a:graphic>
          <a:graphicData uri="http://schemas.openxmlformats.org/drawingml/2006/table">
            <a:tbl>
              <a:tblPr/>
              <a:tblGrid>
                <a:gridCol w="3276720"/>
                <a:gridCol w="685800"/>
                <a:gridCol w="4724280"/>
              </a:tblGrid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USINESS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/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Does it fit our business strategy?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anTech personnel are working in NATO and Afghanist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Does this effort match our mission, vision, goals?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and ManTech NATO Opera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Do we understand the key requirements of this effort?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th MSS and DSG have experience in this type of work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o we have strong, relevant past performanc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ly working in Afghanistan (Not evaluated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ing command centers (Not evaluated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Do we know the customer and their organization?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ve worked with NATO for many ye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Is this a funded requirement?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Does the customer know us?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228600" y="4257720"/>
          <a:ext cx="8686800" cy="155088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533412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SK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S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Low/Med/Hig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TIGATION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POSAL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re Communication Engineer that developed Statement of Work/Use NATO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RFORMANCE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ch in Country, Sound design takes out technical risk; Negotiated pricing after award takes out deployment risk; and NATO Provided Security and Support Services reduces fielding and sustainment risk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35C-7949-40F6-A2F0-A815C9BD81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361440" y="1488960"/>
            <a:ext cx="3551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ture Manager/ Book B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n Vall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hn Franci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I: Bid Admin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ry Gent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da Philli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II: Price Qu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ug Diam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ris Colglazi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hn Trembl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contract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3943440" y="1488960"/>
            <a:ext cx="510516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III: Contractual and Delivery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45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irdre Mun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rry Gen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45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 IV: Technical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345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b Wal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orge Gib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rrell Leonard (DG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n Parker (DS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ve Groves (Segov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ve Woolka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y Kana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evin Gr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ve Spell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rk Mic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342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dy Shank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914040" y="31680"/>
            <a:ext cx="80470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roposal Tea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E99-8B4B-4D34-AE0D-F4C654C5A3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003320" y="1447560"/>
            <a:ext cx="7756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D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Ju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from Vend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Ju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ck Off Mee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 Ju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. Walker on-board in Burling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 Ju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nk T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Aug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 T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Aug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Aug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3 Augu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i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ept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760320" y="63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F50-E899-4C46-9700-F50B395FBB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55640" y="1364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al Content &amp; Schedu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514440" y="1711440"/>
          <a:ext cx="8184960" cy="3144600"/>
        </p:xfrm>
        <a:graphic>
          <a:graphicData uri="http://schemas.openxmlformats.org/drawingml/2006/table">
            <a:tbl>
              <a:tblPr/>
              <a:tblGrid>
                <a:gridCol w="3674880"/>
                <a:gridCol w="925560"/>
                <a:gridCol w="865080"/>
                <a:gridCol w="911160"/>
                <a:gridCol w="892440"/>
                <a:gridCol w="915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ra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raf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 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Bid 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 I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Price Qu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3000" indent="-11430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 II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Contract Delivery &amp;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 I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Technical Prop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J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9CC-D581-4DAD-B3BC-53A65F952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1523880" y="160668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ink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hn Franci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.I. Weintrau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606680"/>
            <a:ext cx="30481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4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e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 Ke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ger Goudr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rrell Leon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676440" y="4752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ie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EC3-F9F6-4800-AF31-AD5734135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228600" y="1235160"/>
          <a:ext cx="4297320" cy="2120760"/>
        </p:xfrm>
        <a:graphic>
          <a:graphicData uri="http://schemas.openxmlformats.org/drawingml/2006/table">
            <a:tbl>
              <a:tblPr/>
              <a:tblGrid>
                <a:gridCol w="1995480"/>
                <a:gridCol w="23018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FF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roposal Mana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 Val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rketing Mana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dy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ID Administration (Part 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ry Gent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rice Quotation (Part I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g  Diamond / Chris Colglaz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ontractual and Delivery Proposal (Part II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irdre Mun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 Proposal (Part I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b Wal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73200" y="1364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al Requirements &amp; Schedu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648320" y="1235160"/>
          <a:ext cx="4267080" cy="1933560"/>
        </p:xfrm>
        <a:graphic>
          <a:graphicData uri="http://schemas.openxmlformats.org/drawingml/2006/table">
            <a:tbl>
              <a:tblPr/>
              <a:tblGrid>
                <a:gridCol w="1900080"/>
                <a:gridCol w="23670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&amp;P $ / ROI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esu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y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ac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lington/Pr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Sec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lassif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roposal Pro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porate Headquar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7720"/>
                          <a:tab algn="l" pos="2035080"/>
                          <a:tab algn="l" pos="3052800"/>
                          <a:tab algn="l" pos="4070520"/>
                          <a:tab algn="l" pos="5087880"/>
                          <a:tab algn="l" pos="6105600"/>
                          <a:tab algn="l" pos="7122960"/>
                          <a:tab algn="l" pos="8140680"/>
                          <a:tab algn="l" pos="9158400"/>
                          <a:tab algn="l" pos="1017576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 Deliver (Lind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228600" y="3673440"/>
          <a:ext cx="8764560" cy="2347920"/>
        </p:xfrm>
        <a:graphic>
          <a:graphicData uri="http://schemas.openxmlformats.org/drawingml/2006/table">
            <a:tbl>
              <a:tblPr/>
              <a:tblGrid>
                <a:gridCol w="2116080"/>
                <a:gridCol w="2228760"/>
                <a:gridCol w="4419720"/>
              </a:tblGrid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HEDULE MILESTON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DAs/Tea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Week of July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Kick-off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d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Week of July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Pink Tea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 August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Pricin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 August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Red Tea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 August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Produc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3 August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ubmiss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 September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hip to L. Martin on 30 August 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3" name=""/>
          <p:cNvSpPr/>
          <p:nvPr/>
        </p:nvSpPr>
        <p:spPr>
          <a:xfrm>
            <a:off x="4642200" y="321156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I is computed as a function of B&amp;P costs vs. Projected First Year Revenu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uld expressed as a percentage.  Target range is between 3%-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48A-02AC-48E1-8CF2-F3F1366BD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ap-U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42840" y="1052640"/>
            <a:ext cx="7172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Your Basic FAR B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 N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Rules – Distant Location – Cleara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Cost Shoot-Out on an FF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N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do know this customer and the ru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do have ManTech people in NATO and on the ground in Afghanist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do understand electronic repair / sustainment in hostile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challenge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The Low, Compliant Bidder on Euro 70 Million FFP Bid 1/2 World Aw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do it in 60 d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…We got the right 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231-E872-47FB-A48C-5BC7D235B5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104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 Descrip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752480"/>
            <a:ext cx="83059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and Deploy 30 Points of Presence, Satellite Terminal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Band, in Afghanistan with reach-back to existing NATO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and cost must be extendable to additional P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architecture provided along with substantial P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7D4-15EB-462E-8383-DEB92FC5B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59560" y="4218120"/>
            <a:ext cx="1027080" cy="5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59560" y="3546360"/>
            <a:ext cx="1027080" cy="5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9560" y="2890800"/>
            <a:ext cx="1027080" cy="5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56320" y="2182680"/>
            <a:ext cx="1027440" cy="5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59560" y="1525680"/>
            <a:ext cx="1027080" cy="5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560" y="104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W Notional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135080" y="5792760"/>
            <a:ext cx="7034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1: PRT = Provisional Reconstruction Team 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2: Regional Centre links several subordinate P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OTE 3: The PRTS have one link to one of the Theatre Hubs as well as to their Regional Cent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link shown represents all PRTS.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7200" y="4576680"/>
            <a:ext cx="1761840" cy="26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2640" y="4968720"/>
            <a:ext cx="1109520" cy="7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08360" y="4578120"/>
            <a:ext cx="371520" cy="390600"/>
            <a:chOff x="2808360" y="4578120"/>
            <a:chExt cx="371520" cy="390600"/>
          </a:xfrm>
        </p:grpSpPr>
        <p:grpSp>
          <p:nvGrpSpPr>
            <p:cNvPr id="110" name=""/>
            <p:cNvGrpSpPr/>
            <p:nvPr/>
          </p:nvGrpSpPr>
          <p:grpSpPr>
            <a:xfrm>
              <a:off x="2810520" y="4578120"/>
              <a:ext cx="369360" cy="364680"/>
              <a:chOff x="2810520" y="4578120"/>
              <a:chExt cx="369360" cy="3646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812680" y="4578120"/>
                <a:ext cx="367200" cy="364680"/>
                <a:chOff x="2812680" y="4578120"/>
                <a:chExt cx="367200" cy="36468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812680" y="4578120"/>
                  <a:ext cx="363600" cy="359280"/>
                  <a:chOff x="2812680" y="4578120"/>
                  <a:chExt cx="363600" cy="35928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812680" y="4591440"/>
                    <a:ext cx="363600" cy="345960"/>
                    <a:chOff x="2812680" y="4591440"/>
                    <a:chExt cx="363600" cy="345960"/>
                  </a:xfrm>
                </p:grpSpPr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2943000" y="4796280"/>
                      <a:ext cx="11520" cy="43920"/>
                      <a:chOff x="2943000" y="4796280"/>
                      <a:chExt cx="11520" cy="4392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943000" y="479700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2947680" y="47962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888640" y="4768560"/>
                      <a:ext cx="38520" cy="70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035160" y="4782960"/>
                      <a:ext cx="259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980800" y="47552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949840" y="4845240"/>
                      <a:ext cx="828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86480" y="4668120"/>
                      <a:ext cx="3456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78200" y="4591440"/>
                      <a:ext cx="52200" cy="24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76040" y="4839840"/>
                      <a:ext cx="30024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77480" y="4876920"/>
                      <a:ext cx="21996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2866320" y="47642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858040" y="4795920"/>
                      <a:ext cx="198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967840" y="4784760"/>
                      <a:ext cx="666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824200" y="4821840"/>
                      <a:ext cx="5184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2812680" y="4929120"/>
                      <a:ext cx="36288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2812680" y="4912560"/>
                      <a:ext cx="36288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2812680" y="4894560"/>
                      <a:ext cx="36288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127680" y="4881240"/>
                      <a:ext cx="3708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2850120" y="4812840"/>
                      <a:ext cx="2592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2943000" y="4777560"/>
                      <a:ext cx="23400" cy="16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2928600" y="4767840"/>
                      <a:ext cx="10440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6" name=""/>
                    <p:cNvGrpSpPr/>
                    <p:nvPr/>
                  </p:nvGrpSpPr>
                  <p:grpSpPr>
                    <a:xfrm>
                      <a:off x="2844000" y="4700520"/>
                      <a:ext cx="115200" cy="72360"/>
                      <a:chOff x="2844000" y="4700520"/>
                      <a:chExt cx="115200" cy="72360"/>
                    </a:xfrm>
                  </p:grpSpPr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2853720" y="4700520"/>
                        <a:ext cx="10548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2844000" y="4700520"/>
                        <a:ext cx="10512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2889000" y="4840560"/>
                      <a:ext cx="39240" cy="70200"/>
                      <a:chOff x="2889000" y="4840560"/>
                      <a:chExt cx="39240" cy="7020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2890080" y="4840560"/>
                        <a:ext cx="36720" cy="70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1" name=""/>
                      <p:cNvGrpSpPr/>
                      <p:nvPr/>
                    </p:nvGrpSpPr>
                    <p:grpSpPr>
                      <a:xfrm>
                        <a:off x="2889000" y="4848480"/>
                        <a:ext cx="39240" cy="54360"/>
                        <a:chOff x="2889000" y="4848480"/>
                        <a:chExt cx="39240" cy="54360"/>
                      </a:xfrm>
                    </p:grpSpPr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889000" y="485784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889000" y="4884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889000" y="4875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889000" y="486684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889000" y="4848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2889000" y="4893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2889000" y="4902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138840" y="485892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3029760" y="4658760"/>
                    <a:ext cx="65160" cy="49680"/>
                    <a:chOff x="3029760" y="4658760"/>
                    <a:chExt cx="65160" cy="4968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065400" y="4673520"/>
                      <a:ext cx="295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029760" y="4658760"/>
                      <a:ext cx="5724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2899800" y="4578120"/>
                    <a:ext cx="214200" cy="231480"/>
                    <a:chOff x="2899800" y="4578120"/>
                    <a:chExt cx="214200" cy="2314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899800" y="4578480"/>
                      <a:ext cx="2142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912760" y="4578120"/>
                      <a:ext cx="20124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919960" y="4636440"/>
                    <a:ext cx="205920" cy="149760"/>
                    <a:chOff x="2919960" y="4636440"/>
                    <a:chExt cx="205920" cy="1497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919960" y="4636440"/>
                      <a:ext cx="198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056040" y="4666680"/>
                      <a:ext cx="6984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3080520" y="4638960"/>
                    <a:ext cx="82080" cy="36720"/>
                    <a:chOff x="3080520" y="4638960"/>
                    <a:chExt cx="82080" cy="367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080520" y="4642920"/>
                      <a:ext cx="579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114360" y="4638960"/>
                      <a:ext cx="3204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123000" y="4640400"/>
                      <a:ext cx="3960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092760" y="465120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103200" y="464832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" name=""/>
                <p:cNvSpPr/>
                <p:nvPr/>
              </p:nvSpPr>
              <p:spPr>
                <a:xfrm flipH="1">
                  <a:off x="2925720" y="4815360"/>
                  <a:ext cx="254160" cy="127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>
                <a:off x="2810520" y="4767480"/>
                <a:ext cx="6912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808360" y="4933080"/>
              <a:ext cx="339840" cy="3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 flipV="1">
            <a:off x="1569600" y="3792240"/>
            <a:ext cx="84780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07440" y="1312920"/>
            <a:ext cx="841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86000" y="4578120"/>
            <a:ext cx="369360" cy="390600"/>
            <a:chOff x="2286000" y="4578120"/>
            <a:chExt cx="369360" cy="390600"/>
          </a:xfrm>
        </p:grpSpPr>
        <p:grpSp>
          <p:nvGrpSpPr>
            <p:cNvPr id="171" name=""/>
            <p:cNvGrpSpPr/>
            <p:nvPr/>
          </p:nvGrpSpPr>
          <p:grpSpPr>
            <a:xfrm>
              <a:off x="2287800" y="4578120"/>
              <a:ext cx="367560" cy="364680"/>
              <a:chOff x="2287800" y="4578120"/>
              <a:chExt cx="367560" cy="3646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2290320" y="4578120"/>
                <a:ext cx="365040" cy="364680"/>
                <a:chOff x="2290320" y="4578120"/>
                <a:chExt cx="365040" cy="36468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2290320" y="4578120"/>
                  <a:ext cx="362520" cy="359280"/>
                  <a:chOff x="2290320" y="4578120"/>
                  <a:chExt cx="362520" cy="35928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290320" y="4591440"/>
                    <a:ext cx="362520" cy="345960"/>
                    <a:chOff x="2290320" y="4591440"/>
                    <a:chExt cx="362520" cy="345960"/>
                  </a:xfrm>
                </p:grpSpPr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2420280" y="4796280"/>
                      <a:ext cx="11520" cy="43920"/>
                      <a:chOff x="2420280" y="4796280"/>
                      <a:chExt cx="11520" cy="4392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2420280" y="479700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2424960" y="47962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365920" y="4768560"/>
                      <a:ext cx="38520" cy="70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11720" y="478296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57720" y="47552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426760" y="4845240"/>
                      <a:ext cx="824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364120" y="466812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355480" y="4591440"/>
                      <a:ext cx="52200" cy="24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353680" y="4839840"/>
                      <a:ext cx="29916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354760" y="4876920"/>
                      <a:ext cx="21888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2343600" y="47642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2335680" y="4795920"/>
                      <a:ext cx="198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444760" y="4784760"/>
                      <a:ext cx="662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301840" y="4821840"/>
                      <a:ext cx="5148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2290320" y="4929120"/>
                      <a:ext cx="36144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2290320" y="4912560"/>
                      <a:ext cx="3614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290320" y="4894560"/>
                      <a:ext cx="36144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2604240" y="4881240"/>
                      <a:ext cx="3672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327760" y="481284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420280" y="4777560"/>
                      <a:ext cx="23040" cy="16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405880" y="4767840"/>
                      <a:ext cx="10368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7" name=""/>
                    <p:cNvGrpSpPr/>
                    <p:nvPr/>
                  </p:nvGrpSpPr>
                  <p:grpSpPr>
                    <a:xfrm>
                      <a:off x="2321640" y="4700520"/>
                      <a:ext cx="114840" cy="72360"/>
                      <a:chOff x="2321640" y="4700520"/>
                      <a:chExt cx="114840" cy="72360"/>
                    </a:xfrm>
                  </p:grpSpPr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331360" y="4700520"/>
                        <a:ext cx="10512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2321640" y="4700520"/>
                        <a:ext cx="10440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0" name=""/>
                    <p:cNvGrpSpPr/>
                    <p:nvPr/>
                  </p:nvGrpSpPr>
                  <p:grpSpPr>
                    <a:xfrm>
                      <a:off x="2366640" y="4840560"/>
                      <a:ext cx="39240" cy="70200"/>
                      <a:chOff x="2366640" y="4840560"/>
                      <a:chExt cx="39240" cy="70200"/>
                    </a:xfrm>
                  </p:grpSpPr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2367720" y="4840560"/>
                        <a:ext cx="36720" cy="70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2366640" y="4848480"/>
                        <a:ext cx="39240" cy="54360"/>
                        <a:chOff x="2366640" y="4848480"/>
                        <a:chExt cx="39240" cy="5436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366640" y="485784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366640" y="4884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366640" y="4875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366640" y="486684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366640" y="4848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366640" y="4893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366640" y="490248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615400" y="485892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2506320" y="4658760"/>
                    <a:ext cx="65160" cy="49680"/>
                    <a:chOff x="2506320" y="4658760"/>
                    <a:chExt cx="65160" cy="4968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541960" y="4673520"/>
                      <a:ext cx="295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506320" y="4658760"/>
                      <a:ext cx="5724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2377080" y="4578120"/>
                    <a:ext cx="213480" cy="231480"/>
                    <a:chOff x="2377080" y="4578120"/>
                    <a:chExt cx="213480" cy="231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2377080" y="4578480"/>
                      <a:ext cx="21348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390040" y="4578120"/>
                      <a:ext cx="2005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397240" y="4636440"/>
                    <a:ext cx="204840" cy="149760"/>
                    <a:chOff x="2397240" y="4636440"/>
                    <a:chExt cx="204840" cy="1497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2397240" y="4636440"/>
                      <a:ext cx="19692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2532600" y="4666680"/>
                      <a:ext cx="6948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556720" y="4638960"/>
                    <a:ext cx="81720" cy="36720"/>
                    <a:chOff x="2556720" y="4638960"/>
                    <a:chExt cx="81720" cy="3672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2556720" y="4642920"/>
                      <a:ext cx="576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2590200" y="463896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599200" y="4640400"/>
                      <a:ext cx="39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2568960" y="465120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2579400" y="464832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6" name=""/>
                <p:cNvSpPr/>
                <p:nvPr/>
              </p:nvSpPr>
              <p:spPr>
                <a:xfrm flipH="1">
                  <a:off x="2401920" y="4815360"/>
                  <a:ext cx="253080" cy="127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flipH="1">
                <a:off x="2287440" y="4767480"/>
                <a:ext cx="6876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286000" y="4933080"/>
              <a:ext cx="338400" cy="3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222640" y="4968720"/>
            <a:ext cx="12110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 Thea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ML SAT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ubs (Kabul/Kandah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897200" y="3597120"/>
            <a:ext cx="97776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484520" y="1250640"/>
            <a:ext cx="370080" cy="388800"/>
            <a:chOff x="4484520" y="1250640"/>
            <a:chExt cx="370080" cy="388800"/>
          </a:xfrm>
        </p:grpSpPr>
        <p:grpSp>
          <p:nvGrpSpPr>
            <p:cNvPr id="232" name=""/>
            <p:cNvGrpSpPr/>
            <p:nvPr/>
          </p:nvGrpSpPr>
          <p:grpSpPr>
            <a:xfrm>
              <a:off x="4487040" y="1250640"/>
              <a:ext cx="367560" cy="362880"/>
              <a:chOff x="4487040" y="1250640"/>
              <a:chExt cx="367560" cy="362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4488840" y="1250640"/>
                <a:ext cx="365760" cy="362880"/>
                <a:chOff x="4488840" y="1250640"/>
                <a:chExt cx="365760" cy="36288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4488840" y="1250640"/>
                  <a:ext cx="362880" cy="357840"/>
                  <a:chOff x="4488840" y="1250640"/>
                  <a:chExt cx="362880" cy="35784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488840" y="1263960"/>
                    <a:ext cx="362880" cy="344520"/>
                    <a:chOff x="4488840" y="1263960"/>
                    <a:chExt cx="362880" cy="344520"/>
                  </a:xfrm>
                </p:grpSpPr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8800" y="1468080"/>
                      <a:ext cx="11520" cy="43920"/>
                      <a:chOff x="4618800" y="1468080"/>
                      <a:chExt cx="11520" cy="4392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8800" y="146880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23480" y="14680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564440" y="1440360"/>
                      <a:ext cx="38520" cy="69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710600" y="145476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4656240" y="14270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625640" y="1516680"/>
                      <a:ext cx="824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562640" y="134028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4554000" y="1263960"/>
                      <a:ext cx="52200" cy="24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4552200" y="1511280"/>
                      <a:ext cx="29952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553280" y="1548360"/>
                      <a:ext cx="21924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542480" y="14360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4200" y="1467360"/>
                      <a:ext cx="198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643280" y="1456560"/>
                      <a:ext cx="6624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500360" y="1493280"/>
                      <a:ext cx="514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488840" y="1600200"/>
                      <a:ext cx="36180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488840" y="1583640"/>
                      <a:ext cx="3618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488840" y="1566000"/>
                      <a:ext cx="36180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4803120" y="1552320"/>
                      <a:ext cx="3672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526280" y="148464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618800" y="1449360"/>
                      <a:ext cx="2304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604400" y="1439640"/>
                      <a:ext cx="1040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4520160" y="1372320"/>
                      <a:ext cx="115200" cy="72000"/>
                      <a:chOff x="4520160" y="1372320"/>
                      <a:chExt cx="115200" cy="720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4529880" y="1372320"/>
                        <a:ext cx="1054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520160" y="1372320"/>
                        <a:ext cx="10476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4565160" y="1512000"/>
                      <a:ext cx="39240" cy="69840"/>
                      <a:chOff x="4565160" y="1512000"/>
                      <a:chExt cx="39240" cy="69840"/>
                    </a:xfrm>
                  </p:grpSpPr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4566240" y="1512000"/>
                        <a:ext cx="36720" cy="69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3" name=""/>
                      <p:cNvGrpSpPr/>
                      <p:nvPr/>
                    </p:nvGrpSpPr>
                    <p:grpSpPr>
                      <a:xfrm>
                        <a:off x="4565160" y="1519920"/>
                        <a:ext cx="39240" cy="54000"/>
                        <a:chOff x="4565160" y="1519920"/>
                        <a:chExt cx="39240" cy="54000"/>
                      </a:xfrm>
                    </p:grpSpPr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4565160" y="1528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4565160" y="1555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4565160" y="1546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4565160" y="1537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4565160" y="1519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4565160" y="156456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4565160" y="157356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14280" y="153036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704840" y="1330920"/>
                    <a:ext cx="65160" cy="49320"/>
                    <a:chOff x="4704840" y="1330920"/>
                    <a:chExt cx="65160" cy="493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740480" y="1345680"/>
                      <a:ext cx="295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704840" y="1330920"/>
                      <a:ext cx="5724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575600" y="1250640"/>
                    <a:ext cx="213480" cy="230760"/>
                    <a:chOff x="4575600" y="1250640"/>
                    <a:chExt cx="213480" cy="2307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4575600" y="1251000"/>
                      <a:ext cx="2134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88560" y="1250640"/>
                      <a:ext cx="2005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595760" y="1308960"/>
                    <a:ext cx="204840" cy="149040"/>
                    <a:chOff x="4595760" y="1308960"/>
                    <a:chExt cx="204840" cy="14904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595760" y="1308960"/>
                      <a:ext cx="196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731120" y="1338840"/>
                      <a:ext cx="69480" cy="11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755600" y="1311480"/>
                    <a:ext cx="81720" cy="36360"/>
                    <a:chOff x="4755600" y="1311480"/>
                    <a:chExt cx="81720" cy="363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755600" y="1315440"/>
                      <a:ext cx="5760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789080" y="131148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4798080" y="1312920"/>
                      <a:ext cx="39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4767840" y="132372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778280" y="132048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7" name=""/>
                <p:cNvSpPr/>
                <p:nvPr/>
              </p:nvSpPr>
              <p:spPr>
                <a:xfrm flipH="1">
                  <a:off x="4601160" y="1486800"/>
                  <a:ext cx="253080" cy="12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 flipH="1">
                <a:off x="4486680" y="1439280"/>
                <a:ext cx="6876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484520" y="1604160"/>
              <a:ext cx="338760" cy="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341960" y="1679400"/>
            <a:ext cx="749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421520" y="2555640"/>
            <a:ext cx="366120" cy="363600"/>
            <a:chOff x="4421520" y="2555640"/>
            <a:chExt cx="366120" cy="363600"/>
          </a:xfrm>
        </p:grpSpPr>
        <p:grpSp>
          <p:nvGrpSpPr>
            <p:cNvPr id="292" name=""/>
            <p:cNvGrpSpPr/>
            <p:nvPr/>
          </p:nvGrpSpPr>
          <p:grpSpPr>
            <a:xfrm>
              <a:off x="4423680" y="2555640"/>
              <a:ext cx="363960" cy="363600"/>
              <a:chOff x="4423680" y="2555640"/>
              <a:chExt cx="363960" cy="3636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423680" y="2555640"/>
                <a:ext cx="361080" cy="358200"/>
                <a:chOff x="4423680" y="2555640"/>
                <a:chExt cx="361080" cy="3582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423680" y="2568960"/>
                  <a:ext cx="361080" cy="344880"/>
                  <a:chOff x="4423680" y="2568960"/>
                  <a:chExt cx="361080" cy="34488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4552920" y="2773080"/>
                    <a:ext cx="11520" cy="43920"/>
                    <a:chOff x="4552920" y="2773080"/>
                    <a:chExt cx="11520" cy="4392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552920" y="2773800"/>
                      <a:ext cx="11520" cy="43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557600" y="2773080"/>
                      <a:ext cx="360" cy="40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4498920" y="2745720"/>
                    <a:ext cx="38520" cy="698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644360" y="2760120"/>
                    <a:ext cx="255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5">
                        <a:moveTo>
                          <a:pt x="0" y="0"/>
                        </a:moveTo>
                        <a:lnTo>
                          <a:pt x="0" y="105"/>
                        </a:lnTo>
                        <a:lnTo>
                          <a:pt x="126" y="105"/>
                        </a:lnTo>
                        <a:lnTo>
                          <a:pt x="126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590360" y="2732400"/>
                    <a:ext cx="176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95">
                        <a:moveTo>
                          <a:pt x="48" y="0"/>
                        </a:moveTo>
                        <a:lnTo>
                          <a:pt x="0" y="95"/>
                        </a:lnTo>
                        <a:lnTo>
                          <a:pt x="64" y="87"/>
                        </a:lnTo>
                        <a:lnTo>
                          <a:pt x="87" y="24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559760" y="2822040"/>
                    <a:ext cx="820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33">
                        <a:moveTo>
                          <a:pt x="0" y="0"/>
                        </a:moveTo>
                        <a:lnTo>
                          <a:pt x="402" y="0"/>
                        </a:lnTo>
                        <a:lnTo>
                          <a:pt x="402" y="33"/>
                        </a:lnTo>
                        <a:lnTo>
                          <a:pt x="5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497120" y="2645280"/>
                    <a:ext cx="34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5">
                        <a:moveTo>
                          <a:pt x="158" y="0"/>
                        </a:moveTo>
                        <a:lnTo>
                          <a:pt x="2" y="147"/>
                        </a:lnTo>
                        <a:lnTo>
                          <a:pt x="0" y="205"/>
                        </a:lnTo>
                        <a:lnTo>
                          <a:pt x="168" y="68"/>
                        </a:lnTo>
                        <a:lnTo>
                          <a:pt x="15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488480" y="2568960"/>
                    <a:ext cx="518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1749">
                        <a:moveTo>
                          <a:pt x="254" y="0"/>
                        </a:moveTo>
                        <a:lnTo>
                          <a:pt x="0" y="103"/>
                        </a:lnTo>
                        <a:lnTo>
                          <a:pt x="0" y="1749"/>
                        </a:lnTo>
                        <a:lnTo>
                          <a:pt x="47" y="1749"/>
                        </a:lnTo>
                        <a:lnTo>
                          <a:pt x="47" y="253"/>
                        </a:lnTo>
                        <a:lnTo>
                          <a:pt x="254" y="166"/>
                        </a:lnTo>
                        <a:lnTo>
                          <a:pt x="2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486680" y="2816640"/>
                    <a:ext cx="2980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8" h="381">
                        <a:moveTo>
                          <a:pt x="0" y="381"/>
                        </a:moveTo>
                        <a:lnTo>
                          <a:pt x="0" y="0"/>
                        </a:lnTo>
                        <a:lnTo>
                          <a:pt x="317" y="0"/>
                        </a:lnTo>
                        <a:lnTo>
                          <a:pt x="381" y="64"/>
                        </a:lnTo>
                        <a:lnTo>
                          <a:pt x="571" y="64"/>
                        </a:lnTo>
                        <a:lnTo>
                          <a:pt x="634" y="128"/>
                        </a:lnTo>
                        <a:lnTo>
                          <a:pt x="1268" y="128"/>
                        </a:lnTo>
                        <a:lnTo>
                          <a:pt x="1268" y="255"/>
                        </a:lnTo>
                        <a:lnTo>
                          <a:pt x="1458" y="255"/>
                        </a:lnTo>
                        <a:lnTo>
                          <a:pt x="1458" y="381"/>
                        </a:lnTo>
                        <a:lnTo>
                          <a:pt x="0" y="38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487760" y="2853360"/>
                    <a:ext cx="218160" cy="1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476960" y="2741400"/>
                    <a:ext cx="360" cy="31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468680" y="2772720"/>
                    <a:ext cx="19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95" y="0"/>
                        </a:lnTo>
                        <a:lnTo>
                          <a:pt x="95" y="39"/>
                        </a:lnTo>
                        <a:lnTo>
                          <a:pt x="31" y="39"/>
                        </a:lnTo>
                        <a:lnTo>
                          <a:pt x="31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577400" y="2761560"/>
                    <a:ext cx="6588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460">
                        <a:moveTo>
                          <a:pt x="0" y="0"/>
                        </a:moveTo>
                        <a:lnTo>
                          <a:pt x="324" y="460"/>
                        </a:lnTo>
                        <a:lnTo>
                          <a:pt x="277" y="451"/>
                        </a:lnTo>
                        <a:lnTo>
                          <a:pt x="0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435200" y="2798640"/>
                    <a:ext cx="51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507">
                        <a:moveTo>
                          <a:pt x="190" y="0"/>
                        </a:moveTo>
                        <a:lnTo>
                          <a:pt x="0" y="190"/>
                        </a:lnTo>
                        <a:lnTo>
                          <a:pt x="0" y="507"/>
                        </a:lnTo>
                        <a:lnTo>
                          <a:pt x="253" y="507"/>
                        </a:lnTo>
                        <a:lnTo>
                          <a:pt x="253" y="126"/>
                        </a:lnTo>
                        <a:lnTo>
                          <a:pt x="1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423680" y="2905560"/>
                    <a:ext cx="360000" cy="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423680" y="2889000"/>
                    <a:ext cx="36000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423680" y="2871360"/>
                    <a:ext cx="360000" cy="1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736160" y="2857680"/>
                    <a:ext cx="36720" cy="75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460760" y="2789640"/>
                    <a:ext cx="25560" cy="1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552920" y="2754360"/>
                    <a:ext cx="23040" cy="1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538880" y="2744640"/>
                    <a:ext cx="103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6" h="506">
                        <a:moveTo>
                          <a:pt x="63" y="506"/>
                        </a:moveTo>
                        <a:lnTo>
                          <a:pt x="63" y="63"/>
                        </a:lnTo>
                        <a:lnTo>
                          <a:pt x="506" y="63"/>
                        </a:lnTo>
                        <a:lnTo>
                          <a:pt x="506" y="0"/>
                        </a:lnTo>
                        <a:lnTo>
                          <a:pt x="0" y="0"/>
                        </a:lnTo>
                        <a:lnTo>
                          <a:pt x="0" y="506"/>
                        </a:lnTo>
                        <a:lnTo>
                          <a:pt x="63" y="5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4454640" y="2677680"/>
                    <a:ext cx="114480" cy="72000"/>
                    <a:chOff x="4454640" y="2677680"/>
                    <a:chExt cx="114480" cy="720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464360" y="2677680"/>
                      <a:ext cx="10476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454640" y="2677680"/>
                      <a:ext cx="10404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499640" y="2817360"/>
                    <a:ext cx="38880" cy="69840"/>
                    <a:chOff x="4499640" y="2817360"/>
                    <a:chExt cx="38880" cy="6984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500720" y="2817360"/>
                      <a:ext cx="36360" cy="69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4499640" y="2825280"/>
                      <a:ext cx="38880" cy="54000"/>
                      <a:chOff x="4499640" y="2825280"/>
                      <a:chExt cx="38880" cy="5400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4499640" y="283428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4499640" y="286128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4499640" y="285228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499640" y="284328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499640" y="282528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499640" y="286992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4499640" y="2878920"/>
                        <a:ext cx="388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4747320" y="2835720"/>
                    <a:ext cx="10080" cy="1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4638960" y="2635920"/>
                  <a:ext cx="64800" cy="49680"/>
                  <a:chOff x="4638960" y="2635920"/>
                  <a:chExt cx="64800" cy="496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4674600" y="2650680"/>
                    <a:ext cx="291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45">
                        <a:moveTo>
                          <a:pt x="120" y="0"/>
                        </a:moveTo>
                        <a:lnTo>
                          <a:pt x="0" y="206"/>
                        </a:lnTo>
                        <a:lnTo>
                          <a:pt x="24" y="245"/>
                        </a:lnTo>
                        <a:lnTo>
                          <a:pt x="144" y="8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638960" y="2635920"/>
                    <a:ext cx="56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72">
                        <a:moveTo>
                          <a:pt x="269" y="0"/>
                        </a:moveTo>
                        <a:lnTo>
                          <a:pt x="0" y="39"/>
                        </a:lnTo>
                        <a:lnTo>
                          <a:pt x="40" y="72"/>
                        </a:lnTo>
                        <a:lnTo>
                          <a:pt x="279" y="24"/>
                        </a:lnTo>
                        <a:lnTo>
                          <a:pt x="26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4510440" y="2555640"/>
                  <a:ext cx="212400" cy="230760"/>
                  <a:chOff x="4510440" y="2555640"/>
                  <a:chExt cx="212400" cy="2307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4510440" y="2556000"/>
                    <a:ext cx="21240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9" h="1631">
                        <a:moveTo>
                          <a:pt x="33" y="60"/>
                        </a:moveTo>
                        <a:lnTo>
                          <a:pt x="18" y="107"/>
                        </a:lnTo>
                        <a:lnTo>
                          <a:pt x="4" y="167"/>
                        </a:lnTo>
                        <a:lnTo>
                          <a:pt x="0" y="230"/>
                        </a:lnTo>
                        <a:lnTo>
                          <a:pt x="0" y="293"/>
                        </a:lnTo>
                        <a:lnTo>
                          <a:pt x="14" y="376"/>
                        </a:lnTo>
                        <a:lnTo>
                          <a:pt x="26" y="479"/>
                        </a:lnTo>
                        <a:lnTo>
                          <a:pt x="49" y="594"/>
                        </a:lnTo>
                        <a:lnTo>
                          <a:pt x="89" y="725"/>
                        </a:lnTo>
                        <a:lnTo>
                          <a:pt x="148" y="852"/>
                        </a:lnTo>
                        <a:lnTo>
                          <a:pt x="243" y="1002"/>
                        </a:lnTo>
                        <a:lnTo>
                          <a:pt x="338" y="1144"/>
                        </a:lnTo>
                        <a:lnTo>
                          <a:pt x="417" y="1239"/>
                        </a:lnTo>
                        <a:lnTo>
                          <a:pt x="528" y="1354"/>
                        </a:lnTo>
                        <a:lnTo>
                          <a:pt x="642" y="1449"/>
                        </a:lnTo>
                        <a:lnTo>
                          <a:pt x="745" y="1524"/>
                        </a:lnTo>
                        <a:lnTo>
                          <a:pt x="820" y="1571"/>
                        </a:lnTo>
                        <a:lnTo>
                          <a:pt x="895" y="1607"/>
                        </a:lnTo>
                        <a:lnTo>
                          <a:pt x="956" y="1631"/>
                        </a:lnTo>
                        <a:lnTo>
                          <a:pt x="1003" y="1631"/>
                        </a:lnTo>
                        <a:lnTo>
                          <a:pt x="1039" y="1611"/>
                        </a:lnTo>
                        <a:lnTo>
                          <a:pt x="69" y="0"/>
                        </a:lnTo>
                        <a:lnTo>
                          <a:pt x="33" y="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523040" y="2555640"/>
                    <a:ext cx="1994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614">
                        <a:moveTo>
                          <a:pt x="8" y="0"/>
                        </a:moveTo>
                        <a:lnTo>
                          <a:pt x="0" y="31"/>
                        </a:lnTo>
                        <a:lnTo>
                          <a:pt x="0" y="102"/>
                        </a:lnTo>
                        <a:lnTo>
                          <a:pt x="4" y="185"/>
                        </a:lnTo>
                        <a:lnTo>
                          <a:pt x="12" y="253"/>
                        </a:lnTo>
                        <a:lnTo>
                          <a:pt x="24" y="340"/>
                        </a:lnTo>
                        <a:lnTo>
                          <a:pt x="40" y="442"/>
                        </a:lnTo>
                        <a:lnTo>
                          <a:pt x="63" y="549"/>
                        </a:lnTo>
                        <a:lnTo>
                          <a:pt x="111" y="685"/>
                        </a:lnTo>
                        <a:lnTo>
                          <a:pt x="182" y="839"/>
                        </a:lnTo>
                        <a:lnTo>
                          <a:pt x="261" y="966"/>
                        </a:lnTo>
                        <a:lnTo>
                          <a:pt x="356" y="1100"/>
                        </a:lnTo>
                        <a:lnTo>
                          <a:pt x="443" y="1203"/>
                        </a:lnTo>
                        <a:lnTo>
                          <a:pt x="510" y="1273"/>
                        </a:lnTo>
                        <a:lnTo>
                          <a:pt x="573" y="1337"/>
                        </a:lnTo>
                        <a:lnTo>
                          <a:pt x="641" y="1400"/>
                        </a:lnTo>
                        <a:lnTo>
                          <a:pt x="716" y="1462"/>
                        </a:lnTo>
                        <a:lnTo>
                          <a:pt x="767" y="1503"/>
                        </a:lnTo>
                        <a:lnTo>
                          <a:pt x="823" y="1539"/>
                        </a:lnTo>
                        <a:lnTo>
                          <a:pt x="883" y="1573"/>
                        </a:lnTo>
                        <a:lnTo>
                          <a:pt x="935" y="1606"/>
                        </a:lnTo>
                        <a:lnTo>
                          <a:pt x="966" y="1614"/>
                        </a:lnTo>
                        <a:lnTo>
                          <a:pt x="978" y="1590"/>
                        </a:lnTo>
                        <a:lnTo>
                          <a:pt x="975" y="1557"/>
                        </a:lnTo>
                        <a:lnTo>
                          <a:pt x="968" y="1519"/>
                        </a:lnTo>
                        <a:lnTo>
                          <a:pt x="954" y="1452"/>
                        </a:lnTo>
                        <a:lnTo>
                          <a:pt x="939" y="1364"/>
                        </a:lnTo>
                        <a:lnTo>
                          <a:pt x="919" y="1282"/>
                        </a:lnTo>
                        <a:lnTo>
                          <a:pt x="895" y="1186"/>
                        </a:lnTo>
                        <a:lnTo>
                          <a:pt x="863" y="1084"/>
                        </a:lnTo>
                        <a:lnTo>
                          <a:pt x="828" y="1004"/>
                        </a:lnTo>
                        <a:lnTo>
                          <a:pt x="799" y="934"/>
                        </a:lnTo>
                        <a:lnTo>
                          <a:pt x="753" y="842"/>
                        </a:lnTo>
                        <a:lnTo>
                          <a:pt x="708" y="760"/>
                        </a:lnTo>
                        <a:lnTo>
                          <a:pt x="654" y="672"/>
                        </a:lnTo>
                        <a:lnTo>
                          <a:pt x="569" y="561"/>
                        </a:lnTo>
                        <a:lnTo>
                          <a:pt x="510" y="482"/>
                        </a:lnTo>
                        <a:lnTo>
                          <a:pt x="424" y="374"/>
                        </a:lnTo>
                        <a:lnTo>
                          <a:pt x="344" y="296"/>
                        </a:lnTo>
                        <a:lnTo>
                          <a:pt x="265" y="216"/>
                        </a:lnTo>
                        <a:lnTo>
                          <a:pt x="206" y="158"/>
                        </a:lnTo>
                        <a:lnTo>
                          <a:pt x="142" y="97"/>
                        </a:lnTo>
                        <a:lnTo>
                          <a:pt x="95" y="55"/>
                        </a:lnTo>
                        <a:lnTo>
                          <a:pt x="48" y="15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530600" y="2613960"/>
                  <a:ext cx="204120" cy="149040"/>
                  <a:chOff x="4530600" y="2613960"/>
                  <a:chExt cx="204120" cy="149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530600" y="2613960"/>
                    <a:ext cx="196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71">
                        <a:moveTo>
                          <a:pt x="0" y="0"/>
                        </a:moveTo>
                        <a:lnTo>
                          <a:pt x="962" y="39"/>
                        </a:lnTo>
                        <a:lnTo>
                          <a:pt x="954" y="71"/>
                        </a:lnTo>
                        <a:lnTo>
                          <a:pt x="4" y="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665600" y="2643840"/>
                    <a:ext cx="6912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844">
                        <a:moveTo>
                          <a:pt x="302" y="17"/>
                        </a:moveTo>
                        <a:lnTo>
                          <a:pt x="0" y="824"/>
                        </a:lnTo>
                        <a:lnTo>
                          <a:pt x="28" y="844"/>
                        </a:lnTo>
                        <a:lnTo>
                          <a:pt x="341" y="0"/>
                        </a:lnTo>
                        <a:lnTo>
                          <a:pt x="30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689360" y="2616480"/>
                  <a:ext cx="81360" cy="36360"/>
                  <a:chOff x="4689360" y="2616480"/>
                  <a:chExt cx="81360" cy="363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689360" y="2620440"/>
                    <a:ext cx="5760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230">
                        <a:moveTo>
                          <a:pt x="210" y="0"/>
                        </a:moveTo>
                        <a:lnTo>
                          <a:pt x="11" y="71"/>
                        </a:lnTo>
                        <a:lnTo>
                          <a:pt x="4" y="83"/>
                        </a:lnTo>
                        <a:lnTo>
                          <a:pt x="0" y="107"/>
                        </a:lnTo>
                        <a:lnTo>
                          <a:pt x="2" y="140"/>
                        </a:lnTo>
                        <a:lnTo>
                          <a:pt x="5" y="159"/>
                        </a:lnTo>
                        <a:lnTo>
                          <a:pt x="17" y="188"/>
                        </a:lnTo>
                        <a:lnTo>
                          <a:pt x="37" y="211"/>
                        </a:lnTo>
                        <a:lnTo>
                          <a:pt x="64" y="226"/>
                        </a:lnTo>
                        <a:lnTo>
                          <a:pt x="80" y="230"/>
                        </a:lnTo>
                        <a:lnTo>
                          <a:pt x="96" y="230"/>
                        </a:lnTo>
                        <a:lnTo>
                          <a:pt x="282" y="142"/>
                        </a:lnTo>
                        <a:lnTo>
                          <a:pt x="246" y="114"/>
                        </a:lnTo>
                        <a:lnTo>
                          <a:pt x="226" y="87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722840" y="261648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217">
                        <a:moveTo>
                          <a:pt x="92" y="32"/>
                        </a:moveTo>
                        <a:lnTo>
                          <a:pt x="84" y="19"/>
                        </a:lnTo>
                        <a:lnTo>
                          <a:pt x="69" y="7"/>
                        </a:lnTo>
                        <a:lnTo>
                          <a:pt x="41" y="0"/>
                        </a:lnTo>
                        <a:lnTo>
                          <a:pt x="25" y="3"/>
                        </a:lnTo>
                        <a:lnTo>
                          <a:pt x="15" y="15"/>
                        </a:lnTo>
                        <a:lnTo>
                          <a:pt x="5" y="32"/>
                        </a:lnTo>
                        <a:lnTo>
                          <a:pt x="0" y="58"/>
                        </a:lnTo>
                        <a:lnTo>
                          <a:pt x="1" y="73"/>
                        </a:lnTo>
                        <a:lnTo>
                          <a:pt x="4" y="93"/>
                        </a:lnTo>
                        <a:lnTo>
                          <a:pt x="11" y="122"/>
                        </a:lnTo>
                        <a:lnTo>
                          <a:pt x="22" y="145"/>
                        </a:lnTo>
                        <a:lnTo>
                          <a:pt x="36" y="167"/>
                        </a:lnTo>
                        <a:lnTo>
                          <a:pt x="50" y="185"/>
                        </a:lnTo>
                        <a:lnTo>
                          <a:pt x="66" y="201"/>
                        </a:lnTo>
                        <a:lnTo>
                          <a:pt x="86" y="210"/>
                        </a:lnTo>
                        <a:lnTo>
                          <a:pt x="109" y="217"/>
                        </a:lnTo>
                        <a:lnTo>
                          <a:pt x="129" y="217"/>
                        </a:lnTo>
                        <a:lnTo>
                          <a:pt x="148" y="206"/>
                        </a:lnTo>
                        <a:lnTo>
                          <a:pt x="156" y="189"/>
                        </a:lnTo>
                        <a:lnTo>
                          <a:pt x="157" y="165"/>
                        </a:lnTo>
                        <a:lnTo>
                          <a:pt x="152" y="139"/>
                        </a:lnTo>
                        <a:lnTo>
                          <a:pt x="140" y="103"/>
                        </a:lnTo>
                        <a:lnTo>
                          <a:pt x="112" y="58"/>
                        </a:lnTo>
                        <a:lnTo>
                          <a:pt x="92" y="3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731480" y="2617920"/>
                    <a:ext cx="39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55">
                        <a:moveTo>
                          <a:pt x="14" y="35"/>
                        </a:moveTo>
                        <a:lnTo>
                          <a:pt x="135" y="4"/>
                        </a:lnTo>
                        <a:lnTo>
                          <a:pt x="164" y="0"/>
                        </a:lnTo>
                        <a:lnTo>
                          <a:pt x="184" y="4"/>
                        </a:lnTo>
                        <a:lnTo>
                          <a:pt x="191" y="12"/>
                        </a:lnTo>
                        <a:lnTo>
                          <a:pt x="192" y="28"/>
                        </a:lnTo>
                        <a:lnTo>
                          <a:pt x="184" y="52"/>
                        </a:lnTo>
                        <a:lnTo>
                          <a:pt x="72" y="155"/>
                        </a:lnTo>
                        <a:lnTo>
                          <a:pt x="56" y="153"/>
                        </a:lnTo>
                        <a:lnTo>
                          <a:pt x="38" y="147"/>
                        </a:lnTo>
                        <a:lnTo>
                          <a:pt x="25" y="133"/>
                        </a:lnTo>
                        <a:lnTo>
                          <a:pt x="9" y="114"/>
                        </a:lnTo>
                        <a:lnTo>
                          <a:pt x="1" y="94"/>
                        </a:lnTo>
                        <a:lnTo>
                          <a:pt x="0" y="72"/>
                        </a:lnTo>
                        <a:lnTo>
                          <a:pt x="5" y="50"/>
                        </a:lnTo>
                        <a:lnTo>
                          <a:pt x="14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701600" y="2628720"/>
                    <a:ext cx="16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6">
                        <a:moveTo>
                          <a:pt x="5" y="0"/>
                        </a:moveTo>
                        <a:lnTo>
                          <a:pt x="0" y="26"/>
                        </a:lnTo>
                        <a:lnTo>
                          <a:pt x="0" y="48"/>
                        </a:lnTo>
                        <a:lnTo>
                          <a:pt x="7" y="76"/>
                        </a:lnTo>
                        <a:lnTo>
                          <a:pt x="13" y="99"/>
                        </a:lnTo>
                        <a:lnTo>
                          <a:pt x="30" y="122"/>
                        </a:lnTo>
                        <a:lnTo>
                          <a:pt x="46" y="136"/>
                        </a:lnTo>
                        <a:lnTo>
                          <a:pt x="58" y="144"/>
                        </a:lnTo>
                        <a:lnTo>
                          <a:pt x="70" y="149"/>
                        </a:lnTo>
                        <a:lnTo>
                          <a:pt x="83" y="156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712040" y="2625480"/>
                    <a:ext cx="16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6">
                        <a:moveTo>
                          <a:pt x="6" y="0"/>
                        </a:moveTo>
                        <a:lnTo>
                          <a:pt x="0" y="25"/>
                        </a:lnTo>
                        <a:lnTo>
                          <a:pt x="0" y="48"/>
                        </a:lnTo>
                        <a:lnTo>
                          <a:pt x="7" y="76"/>
                        </a:lnTo>
                        <a:lnTo>
                          <a:pt x="14" y="99"/>
                        </a:lnTo>
                        <a:lnTo>
                          <a:pt x="31" y="120"/>
                        </a:lnTo>
                        <a:lnTo>
                          <a:pt x="46" y="136"/>
                        </a:lnTo>
                        <a:lnTo>
                          <a:pt x="58" y="144"/>
                        </a:lnTo>
                        <a:lnTo>
                          <a:pt x="70" y="149"/>
                        </a:lnTo>
                        <a:lnTo>
                          <a:pt x="83" y="156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 flipH="1">
                <a:off x="4535640" y="2792160"/>
                <a:ext cx="252000" cy="12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>
              <a:off x="4421160" y="2744640"/>
              <a:ext cx="687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433760" y="2909880"/>
            <a:ext cx="336600" cy="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46560" y="2944800"/>
            <a:ext cx="8161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982960" y="1250640"/>
            <a:ext cx="367920" cy="388800"/>
            <a:chOff x="2982960" y="1250640"/>
            <a:chExt cx="367920" cy="388800"/>
          </a:xfrm>
        </p:grpSpPr>
        <p:grpSp>
          <p:nvGrpSpPr>
            <p:cNvPr id="351" name=""/>
            <p:cNvGrpSpPr/>
            <p:nvPr/>
          </p:nvGrpSpPr>
          <p:grpSpPr>
            <a:xfrm>
              <a:off x="2984760" y="1250640"/>
              <a:ext cx="366120" cy="362880"/>
              <a:chOff x="2984760" y="1250640"/>
              <a:chExt cx="366120" cy="3628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2986920" y="1250640"/>
                <a:ext cx="363960" cy="362880"/>
                <a:chOff x="2986920" y="1250640"/>
                <a:chExt cx="363960" cy="36288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986920" y="1250640"/>
                  <a:ext cx="361080" cy="357840"/>
                  <a:chOff x="2986920" y="1250640"/>
                  <a:chExt cx="361080" cy="357840"/>
                </a:xfrm>
              </p:grpSpPr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986920" y="1263960"/>
                    <a:ext cx="361080" cy="344520"/>
                    <a:chOff x="2986920" y="1263960"/>
                    <a:chExt cx="361080" cy="344520"/>
                  </a:xfrm>
                </p:grpSpPr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3116160" y="1468080"/>
                      <a:ext cx="11520" cy="43920"/>
                      <a:chOff x="3116160" y="1468080"/>
                      <a:chExt cx="11520" cy="4392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3116160" y="146880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3120840" y="14680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3062160" y="1440360"/>
                      <a:ext cx="38520" cy="69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3207600" y="145476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3153600" y="14270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3123000" y="1516680"/>
                      <a:ext cx="820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3060360" y="134028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3051720" y="1263960"/>
                      <a:ext cx="51840" cy="24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3049920" y="1511280"/>
                      <a:ext cx="2980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3051000" y="1548360"/>
                      <a:ext cx="21816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3040200" y="14360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3031920" y="1467360"/>
                      <a:ext cx="19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3140640" y="1456560"/>
                      <a:ext cx="658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2998440" y="1493280"/>
                      <a:ext cx="511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986920" y="1600200"/>
                      <a:ext cx="36000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2986920" y="1583640"/>
                      <a:ext cx="3600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2986920" y="1566000"/>
                      <a:ext cx="36000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3299400" y="1552320"/>
                      <a:ext cx="3672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3024000" y="148464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3116160" y="1449360"/>
                      <a:ext cx="2304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3102120" y="1439640"/>
                      <a:ext cx="1033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3017880" y="1372320"/>
                      <a:ext cx="114480" cy="72000"/>
                      <a:chOff x="3017880" y="1372320"/>
                      <a:chExt cx="114480" cy="72000"/>
                    </a:xfrm>
                  </p:grpSpPr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027600" y="1372320"/>
                        <a:ext cx="10476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017880" y="1372320"/>
                        <a:ext cx="10404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3062880" y="1512000"/>
                      <a:ext cx="38880" cy="69840"/>
                      <a:chOff x="3062880" y="1512000"/>
                      <a:chExt cx="38880" cy="6984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063960" y="1512000"/>
                        <a:ext cx="36360" cy="69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3062880" y="1519920"/>
                        <a:ext cx="38880" cy="54000"/>
                        <a:chOff x="3062880" y="1519920"/>
                        <a:chExt cx="38880" cy="5400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3062880" y="15289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3062880" y="15559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3062880" y="15469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3062880" y="15379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3062880" y="15199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3062880" y="15645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3062880" y="15735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3310560" y="153036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3202200" y="1330920"/>
                    <a:ext cx="64800" cy="49320"/>
                    <a:chOff x="3202200" y="1330920"/>
                    <a:chExt cx="64800" cy="493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237840" y="1345680"/>
                      <a:ext cx="291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3202200" y="1330920"/>
                      <a:ext cx="5688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073680" y="1250640"/>
                    <a:ext cx="212400" cy="230760"/>
                    <a:chOff x="3073680" y="1250640"/>
                    <a:chExt cx="212400" cy="23076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073680" y="1251000"/>
                      <a:ext cx="21240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086280" y="1250640"/>
                      <a:ext cx="19944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093840" y="1308960"/>
                    <a:ext cx="204120" cy="149040"/>
                    <a:chOff x="3093840" y="1308960"/>
                    <a:chExt cx="204120" cy="1490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3093840" y="1308960"/>
                      <a:ext cx="19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3228840" y="1338840"/>
                      <a:ext cx="69120" cy="11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3252600" y="1311480"/>
                    <a:ext cx="81360" cy="36360"/>
                    <a:chOff x="3252600" y="1311480"/>
                    <a:chExt cx="81360" cy="36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3252600" y="1315440"/>
                      <a:ext cx="5760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286080" y="131148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3294720" y="1312920"/>
                      <a:ext cx="39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3264840" y="132372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3275280" y="132048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6" name=""/>
                <p:cNvSpPr/>
                <p:nvPr/>
              </p:nvSpPr>
              <p:spPr>
                <a:xfrm flipH="1">
                  <a:off x="3098880" y="1486800"/>
                  <a:ext cx="252000" cy="12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 flipH="1">
                <a:off x="2984400" y="1439280"/>
                <a:ext cx="6876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982960" y="1604160"/>
              <a:ext cx="336960" cy="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919240" y="2555640"/>
            <a:ext cx="368640" cy="388800"/>
            <a:chOff x="2919240" y="2555640"/>
            <a:chExt cx="368640" cy="388800"/>
          </a:xfrm>
        </p:grpSpPr>
        <p:grpSp>
          <p:nvGrpSpPr>
            <p:cNvPr id="410" name=""/>
            <p:cNvGrpSpPr/>
            <p:nvPr/>
          </p:nvGrpSpPr>
          <p:grpSpPr>
            <a:xfrm>
              <a:off x="2921400" y="2555640"/>
              <a:ext cx="366480" cy="362880"/>
              <a:chOff x="2921400" y="2555640"/>
              <a:chExt cx="366480" cy="36288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2923200" y="2555640"/>
                <a:ext cx="364680" cy="362880"/>
                <a:chOff x="2923200" y="2555640"/>
                <a:chExt cx="364680" cy="36288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2923200" y="2555640"/>
                  <a:ext cx="361440" cy="357840"/>
                  <a:chOff x="2923200" y="2555640"/>
                  <a:chExt cx="361440" cy="357840"/>
                </a:xfrm>
              </p:grpSpPr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923200" y="2568960"/>
                    <a:ext cx="361440" cy="344520"/>
                    <a:chOff x="2923200" y="2568960"/>
                    <a:chExt cx="361440" cy="344520"/>
                  </a:xfrm>
                </p:grpSpPr>
                <p:grpSp>
                  <p:nvGrpSpPr>
                    <p:cNvPr id="414" name=""/>
                    <p:cNvGrpSpPr/>
                    <p:nvPr/>
                  </p:nvGrpSpPr>
                  <p:grpSpPr>
                    <a:xfrm>
                      <a:off x="3052800" y="2773080"/>
                      <a:ext cx="11520" cy="43920"/>
                      <a:chOff x="3052800" y="2773080"/>
                      <a:chExt cx="11520" cy="43920"/>
                    </a:xfrm>
                  </p:grpSpPr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3052800" y="277380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3057480" y="27730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2998440" y="2745360"/>
                      <a:ext cx="38520" cy="69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144240" y="275976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090240" y="27320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059280" y="2821680"/>
                      <a:ext cx="820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2996640" y="264528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2988000" y="2568960"/>
                      <a:ext cx="51840" cy="24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2986200" y="2816280"/>
                      <a:ext cx="2984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2987640" y="2853360"/>
                      <a:ext cx="21852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2976480" y="27410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968560" y="2772360"/>
                      <a:ext cx="19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3077280" y="2761560"/>
                      <a:ext cx="6624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2934720" y="2798280"/>
                      <a:ext cx="514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2923200" y="2905200"/>
                      <a:ext cx="36036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923200" y="2888640"/>
                      <a:ext cx="36036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923200" y="2871000"/>
                      <a:ext cx="36036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236040" y="2857320"/>
                      <a:ext cx="3672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2960640" y="278964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052800" y="2754360"/>
                      <a:ext cx="2304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3038400" y="2744640"/>
                      <a:ext cx="1036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2954520" y="2677320"/>
                      <a:ext cx="114840" cy="72000"/>
                      <a:chOff x="2954520" y="2677320"/>
                      <a:chExt cx="114840" cy="72000"/>
                    </a:xfrm>
                  </p:grpSpPr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2964240" y="2677320"/>
                        <a:ext cx="10512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2954520" y="2677320"/>
                        <a:ext cx="10440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2999160" y="2817000"/>
                      <a:ext cx="39240" cy="69840"/>
                      <a:chOff x="2999160" y="2817000"/>
                      <a:chExt cx="39240" cy="6984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3000240" y="2817000"/>
                        <a:ext cx="36720" cy="69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" name=""/>
                      <p:cNvGrpSpPr/>
                      <p:nvPr/>
                    </p:nvGrpSpPr>
                    <p:grpSpPr>
                      <a:xfrm>
                        <a:off x="2999160" y="2824920"/>
                        <a:ext cx="39240" cy="54000"/>
                        <a:chOff x="2999160" y="2824920"/>
                        <a:chExt cx="39240" cy="54000"/>
                      </a:xfrm>
                    </p:grpSpPr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>
                          <a:off x="2999160" y="2833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>
                          <a:off x="2999160" y="2860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>
                          <a:off x="2999160" y="2851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>
                          <a:off x="2999160" y="2842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2999160" y="282492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2999160" y="286956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>
                          <a:off x="2999160" y="2878560"/>
                          <a:ext cx="3924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247200" y="283536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3138840" y="2635920"/>
                    <a:ext cx="64800" cy="49320"/>
                    <a:chOff x="3138840" y="2635920"/>
                    <a:chExt cx="64800" cy="4932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3174480" y="2650680"/>
                      <a:ext cx="291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138840" y="2635920"/>
                      <a:ext cx="5688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3009960" y="2555640"/>
                    <a:ext cx="212760" cy="230760"/>
                    <a:chOff x="3009960" y="2555640"/>
                    <a:chExt cx="212760" cy="2307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3009960" y="2556000"/>
                      <a:ext cx="21276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22560" y="2555640"/>
                      <a:ext cx="19980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3030120" y="2613960"/>
                    <a:ext cx="204120" cy="149040"/>
                    <a:chOff x="3030120" y="2613960"/>
                    <a:chExt cx="204120" cy="14904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030120" y="2613960"/>
                      <a:ext cx="1962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65120" y="2643840"/>
                      <a:ext cx="69120" cy="11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3189240" y="2616480"/>
                    <a:ext cx="81360" cy="36360"/>
                    <a:chOff x="3189240" y="2616480"/>
                    <a:chExt cx="81360" cy="3636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89240" y="2620440"/>
                      <a:ext cx="5760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222720" y="261648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3231360" y="2617920"/>
                      <a:ext cx="39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201480" y="262872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211920" y="2625480"/>
                      <a:ext cx="16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65" name=""/>
                <p:cNvSpPr/>
                <p:nvPr/>
              </p:nvSpPr>
              <p:spPr>
                <a:xfrm flipH="1">
                  <a:off x="3035160" y="2791800"/>
                  <a:ext cx="252360" cy="12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flipH="1">
                <a:off x="2921040" y="2744280"/>
                <a:ext cx="6876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919240" y="2909160"/>
              <a:ext cx="337320" cy="3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267000" y="1444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67000" y="274968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67000" y="1444680"/>
            <a:ext cx="1238400" cy="11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137040" y="1378080"/>
            <a:ext cx="1434960" cy="12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01560" y="1444680"/>
            <a:ext cx="654120" cy="31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417760" y="2749680"/>
            <a:ext cx="587520" cy="18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417760" y="1444680"/>
            <a:ext cx="2154240" cy="31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417400" y="2749680"/>
            <a:ext cx="2087640" cy="18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05280" y="2682720"/>
            <a:ext cx="0" cy="18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004920" y="2682720"/>
            <a:ext cx="1500120" cy="18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005280" y="1444680"/>
            <a:ext cx="1566720" cy="31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04920" y="1444680"/>
            <a:ext cx="66600" cy="31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50280" y="1600200"/>
            <a:ext cx="844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S, MS, NU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15360" y="2252520"/>
            <a:ext cx="844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S, MS, NU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1720" y="2962440"/>
            <a:ext cx="847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S, MS, NU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64320" y="3616200"/>
            <a:ext cx="844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S, MS, NU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554960" y="4282920"/>
            <a:ext cx="844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S, MS, NU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703400" y="2422440"/>
            <a:ext cx="169380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703400" y="2617920"/>
            <a:ext cx="16938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4637160" y="2749320"/>
            <a:ext cx="176040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637160" y="2749320"/>
            <a:ext cx="176040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4637160" y="2749320"/>
            <a:ext cx="176040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49760" y="2292480"/>
            <a:ext cx="195480" cy="1761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3658680" y="3990960"/>
            <a:ext cx="195588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20340600">
            <a:off x="4049640" y="4186080"/>
            <a:ext cx="8492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11720" y="803520"/>
            <a:ext cx="1706040" cy="1882080"/>
            <a:chOff x="711720" y="803520"/>
            <a:chExt cx="1706040" cy="1882080"/>
          </a:xfrm>
        </p:grpSpPr>
        <p:sp>
          <p:nvSpPr>
            <p:cNvPr id="494" name=""/>
            <p:cNvSpPr/>
            <p:nvPr/>
          </p:nvSpPr>
          <p:spPr>
            <a:xfrm>
              <a:off x="1179000" y="1509480"/>
              <a:ext cx="85392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ATO B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Cloud"/>
            <p:cNvSpPr/>
            <p:nvPr/>
          </p:nvSpPr>
          <p:spPr>
            <a:xfrm rot="6045600">
              <a:off x="741960" y="1032480"/>
              <a:ext cx="1644840" cy="1424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701720" y="3206520"/>
            <a:ext cx="366480" cy="390600"/>
            <a:chOff x="1701720" y="3206520"/>
            <a:chExt cx="366480" cy="390600"/>
          </a:xfrm>
        </p:grpSpPr>
        <p:grpSp>
          <p:nvGrpSpPr>
            <p:cNvPr id="497" name=""/>
            <p:cNvGrpSpPr/>
            <p:nvPr/>
          </p:nvGrpSpPr>
          <p:grpSpPr>
            <a:xfrm>
              <a:off x="1703520" y="3206520"/>
              <a:ext cx="364680" cy="364680"/>
              <a:chOff x="1703520" y="3206520"/>
              <a:chExt cx="364680" cy="36468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1705680" y="3206520"/>
                <a:ext cx="362520" cy="364680"/>
                <a:chOff x="1705680" y="3206520"/>
                <a:chExt cx="362520" cy="36468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1705680" y="3206520"/>
                  <a:ext cx="359280" cy="359280"/>
                  <a:chOff x="1705680" y="3206520"/>
                  <a:chExt cx="359280" cy="35928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1705680" y="3219840"/>
                    <a:ext cx="359280" cy="345960"/>
                    <a:chOff x="1705680" y="3219840"/>
                    <a:chExt cx="359280" cy="345960"/>
                  </a:xfrm>
                </p:grpSpPr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1834560" y="3424680"/>
                      <a:ext cx="11160" cy="43920"/>
                      <a:chOff x="1834560" y="3424680"/>
                      <a:chExt cx="11160" cy="4392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1834560" y="3425400"/>
                        <a:ext cx="1116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839240" y="342468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1780560" y="3396960"/>
                      <a:ext cx="38160" cy="70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1925640" y="341136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1871640" y="338364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1841040" y="3473640"/>
                      <a:ext cx="81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1778760" y="329652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770480" y="3219840"/>
                      <a:ext cx="51480" cy="24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1768320" y="3468240"/>
                      <a:ext cx="29664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1769760" y="3505320"/>
                      <a:ext cx="21744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1758600" y="339264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1750680" y="3424320"/>
                      <a:ext cx="19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1858680" y="3413160"/>
                      <a:ext cx="658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1717200" y="3450240"/>
                      <a:ext cx="511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1705680" y="3557520"/>
                      <a:ext cx="35856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1705680" y="3540960"/>
                      <a:ext cx="35856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1705680" y="3522960"/>
                      <a:ext cx="35856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017080" y="3509640"/>
                      <a:ext cx="3636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1742760" y="344124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1834560" y="3405960"/>
                      <a:ext cx="23040" cy="16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1820160" y="3396240"/>
                      <a:ext cx="10296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1736640" y="3328920"/>
                      <a:ext cx="114120" cy="72360"/>
                      <a:chOff x="1736640" y="3328920"/>
                      <a:chExt cx="114120" cy="7236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1746360" y="3328920"/>
                        <a:ext cx="10440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1736640" y="3328920"/>
                        <a:ext cx="10368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1781280" y="3468960"/>
                      <a:ext cx="38880" cy="70200"/>
                      <a:chOff x="1781280" y="3468960"/>
                      <a:chExt cx="38880" cy="7020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1782360" y="3468960"/>
                        <a:ext cx="36360" cy="70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28" name=""/>
                      <p:cNvGrpSpPr/>
                      <p:nvPr/>
                    </p:nvGrpSpPr>
                    <p:grpSpPr>
                      <a:xfrm>
                        <a:off x="1781280" y="3476880"/>
                        <a:ext cx="38880" cy="54360"/>
                        <a:chOff x="1781280" y="3476880"/>
                        <a:chExt cx="38880" cy="54360"/>
                      </a:xfrm>
                    </p:grpSpPr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1781280" y="348624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1781280" y="351288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1781280" y="350388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1781280" y="349524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1781280" y="347688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1781280" y="352188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1781280" y="353088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2028240" y="348732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1920240" y="3287160"/>
                    <a:ext cx="64440" cy="49680"/>
                    <a:chOff x="1920240" y="3287160"/>
                    <a:chExt cx="64440" cy="4968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1955520" y="3301920"/>
                      <a:ext cx="291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1920240" y="3287160"/>
                      <a:ext cx="5652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1792080" y="3206520"/>
                    <a:ext cx="211680" cy="231480"/>
                    <a:chOff x="1792080" y="3206520"/>
                    <a:chExt cx="211680" cy="231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1792080" y="3206880"/>
                      <a:ext cx="21168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1804680" y="3206520"/>
                      <a:ext cx="198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1811880" y="3264840"/>
                    <a:ext cx="203040" cy="149760"/>
                    <a:chOff x="1811880" y="3264840"/>
                    <a:chExt cx="203040" cy="1497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1811880" y="3264840"/>
                      <a:ext cx="1954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1946160" y="3295080"/>
                      <a:ext cx="6876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1970280" y="3267360"/>
                    <a:ext cx="81000" cy="36720"/>
                    <a:chOff x="1970280" y="3267360"/>
                    <a:chExt cx="81000" cy="367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1970280" y="3271320"/>
                      <a:ext cx="572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2003760" y="326736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2012400" y="3268800"/>
                      <a:ext cx="388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1982160" y="327960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1992600" y="327672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2" name=""/>
                <p:cNvSpPr/>
                <p:nvPr/>
              </p:nvSpPr>
              <p:spPr>
                <a:xfrm flipH="1">
                  <a:off x="1816920" y="3443760"/>
                  <a:ext cx="250920" cy="127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H="1">
                <a:off x="1703520" y="3395880"/>
                <a:ext cx="6840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1701720" y="3561480"/>
              <a:ext cx="335880" cy="3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243080" y="3402000"/>
            <a:ext cx="367920" cy="390600"/>
            <a:chOff x="1243080" y="3402000"/>
            <a:chExt cx="367920" cy="390600"/>
          </a:xfrm>
        </p:grpSpPr>
        <p:grpSp>
          <p:nvGrpSpPr>
            <p:cNvPr id="556" name=""/>
            <p:cNvGrpSpPr/>
            <p:nvPr/>
          </p:nvGrpSpPr>
          <p:grpSpPr>
            <a:xfrm>
              <a:off x="1244880" y="3402000"/>
              <a:ext cx="366120" cy="364680"/>
              <a:chOff x="1244880" y="3402000"/>
              <a:chExt cx="366120" cy="3646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247040" y="3402000"/>
                <a:ext cx="363960" cy="364680"/>
                <a:chOff x="1247040" y="3402000"/>
                <a:chExt cx="363960" cy="36468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247040" y="3402000"/>
                  <a:ext cx="361080" cy="359280"/>
                  <a:chOff x="1247040" y="3402000"/>
                  <a:chExt cx="361080" cy="35928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1247040" y="3415320"/>
                    <a:ext cx="361080" cy="345960"/>
                    <a:chOff x="1247040" y="3415320"/>
                    <a:chExt cx="361080" cy="345960"/>
                  </a:xfrm>
                </p:grpSpPr>
                <p:grpSp>
                  <p:nvGrpSpPr>
                    <p:cNvPr id="560" name=""/>
                    <p:cNvGrpSpPr/>
                    <p:nvPr/>
                  </p:nvGrpSpPr>
                  <p:grpSpPr>
                    <a:xfrm>
                      <a:off x="1376280" y="3620160"/>
                      <a:ext cx="11520" cy="43920"/>
                      <a:chOff x="1376280" y="3620160"/>
                      <a:chExt cx="11520" cy="43920"/>
                    </a:xfrm>
                  </p:grpSpPr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1376280" y="3620880"/>
                        <a:ext cx="11520" cy="43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1380960" y="3620160"/>
                        <a:ext cx="360" cy="40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1322280" y="3592440"/>
                      <a:ext cx="38520" cy="70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1467720" y="3606840"/>
                      <a:ext cx="25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05">
                          <a:moveTo>
                            <a:pt x="0" y="0"/>
                          </a:moveTo>
                          <a:lnTo>
                            <a:pt x="0" y="105"/>
                          </a:lnTo>
                          <a:lnTo>
                            <a:pt x="126" y="105"/>
                          </a:lnTo>
                          <a:lnTo>
                            <a:pt x="126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1413720" y="3579120"/>
                      <a:ext cx="1764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95">
                          <a:moveTo>
                            <a:pt x="48" y="0"/>
                          </a:moveTo>
                          <a:lnTo>
                            <a:pt x="0" y="95"/>
                          </a:lnTo>
                          <a:lnTo>
                            <a:pt x="64" y="87"/>
                          </a:lnTo>
                          <a:lnTo>
                            <a:pt x="87" y="24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1383120" y="3669120"/>
                      <a:ext cx="820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" h="33">
                          <a:moveTo>
                            <a:pt x="0" y="0"/>
                          </a:moveTo>
                          <a:lnTo>
                            <a:pt x="402" y="0"/>
                          </a:lnTo>
                          <a:lnTo>
                            <a:pt x="402" y="33"/>
                          </a:lnTo>
                          <a:lnTo>
                            <a:pt x="5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1320480" y="3492000"/>
                      <a:ext cx="342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5">
                          <a:moveTo>
                            <a:pt x="158" y="0"/>
                          </a:moveTo>
                          <a:lnTo>
                            <a:pt x="2" y="147"/>
                          </a:lnTo>
                          <a:lnTo>
                            <a:pt x="0" y="205"/>
                          </a:lnTo>
                          <a:lnTo>
                            <a:pt x="168" y="68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1311840" y="3415320"/>
                      <a:ext cx="51840" cy="24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749">
                          <a:moveTo>
                            <a:pt x="254" y="0"/>
                          </a:moveTo>
                          <a:lnTo>
                            <a:pt x="0" y="103"/>
                          </a:lnTo>
                          <a:lnTo>
                            <a:pt x="0" y="1749"/>
                          </a:lnTo>
                          <a:lnTo>
                            <a:pt x="47" y="1749"/>
                          </a:lnTo>
                          <a:lnTo>
                            <a:pt x="47" y="253"/>
                          </a:lnTo>
                          <a:lnTo>
                            <a:pt x="254" y="166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1310040" y="3663720"/>
                      <a:ext cx="298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8" h="381">
                          <a:moveTo>
                            <a:pt x="0" y="381"/>
                          </a:moveTo>
                          <a:lnTo>
                            <a:pt x="0" y="0"/>
                          </a:lnTo>
                          <a:lnTo>
                            <a:pt x="317" y="0"/>
                          </a:lnTo>
                          <a:lnTo>
                            <a:pt x="381" y="64"/>
                          </a:lnTo>
                          <a:lnTo>
                            <a:pt x="571" y="64"/>
                          </a:lnTo>
                          <a:lnTo>
                            <a:pt x="634" y="128"/>
                          </a:lnTo>
                          <a:lnTo>
                            <a:pt x="1268" y="128"/>
                          </a:lnTo>
                          <a:lnTo>
                            <a:pt x="1268" y="255"/>
                          </a:lnTo>
                          <a:lnTo>
                            <a:pt x="1458" y="255"/>
                          </a:lnTo>
                          <a:lnTo>
                            <a:pt x="1458" y="381"/>
                          </a:lnTo>
                          <a:lnTo>
                            <a:pt x="0" y="38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1311120" y="3700800"/>
                      <a:ext cx="21816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1300320" y="3588120"/>
                      <a:ext cx="360" cy="313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1292040" y="3619800"/>
                      <a:ext cx="19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11">
                          <a:moveTo>
                            <a:pt x="0" y="111"/>
                          </a:moveTo>
                          <a:lnTo>
                            <a:pt x="0" y="0"/>
                          </a:lnTo>
                          <a:lnTo>
                            <a:pt x="95" y="0"/>
                          </a:lnTo>
                          <a:lnTo>
                            <a:pt x="95" y="39"/>
                          </a:lnTo>
                          <a:lnTo>
                            <a:pt x="31" y="39"/>
                          </a:lnTo>
                          <a:lnTo>
                            <a:pt x="31" y="111"/>
                          </a:lnTo>
                          <a:lnTo>
                            <a:pt x="0" y="1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1400760" y="3608640"/>
                      <a:ext cx="658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460">
                          <a:moveTo>
                            <a:pt x="0" y="0"/>
                          </a:moveTo>
                          <a:lnTo>
                            <a:pt x="324" y="460"/>
                          </a:lnTo>
                          <a:lnTo>
                            <a:pt x="277" y="451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1258560" y="3645720"/>
                      <a:ext cx="511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507">
                          <a:moveTo>
                            <a:pt x="190" y="0"/>
                          </a:moveTo>
                          <a:lnTo>
                            <a:pt x="0" y="190"/>
                          </a:lnTo>
                          <a:lnTo>
                            <a:pt x="0" y="507"/>
                          </a:lnTo>
                          <a:lnTo>
                            <a:pt x="253" y="507"/>
                          </a:lnTo>
                          <a:lnTo>
                            <a:pt x="253" y="126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1247040" y="3753000"/>
                      <a:ext cx="360000" cy="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1247040" y="3736440"/>
                      <a:ext cx="3600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1247040" y="3718440"/>
                      <a:ext cx="360000" cy="16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559520" y="3705120"/>
                      <a:ext cx="36720" cy="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1284120" y="3636720"/>
                      <a:ext cx="25560" cy="17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1376280" y="3601440"/>
                      <a:ext cx="23040" cy="16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1362240" y="3591720"/>
                      <a:ext cx="1033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6" h="506">
                          <a:moveTo>
                            <a:pt x="63" y="506"/>
                          </a:moveTo>
                          <a:lnTo>
                            <a:pt x="63" y="63"/>
                          </a:lnTo>
                          <a:lnTo>
                            <a:pt x="506" y="63"/>
                          </a:lnTo>
                          <a:lnTo>
                            <a:pt x="506" y="0"/>
                          </a:lnTo>
                          <a:lnTo>
                            <a:pt x="0" y="0"/>
                          </a:lnTo>
                          <a:lnTo>
                            <a:pt x="0" y="506"/>
                          </a:lnTo>
                          <a:lnTo>
                            <a:pt x="63" y="50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1278000" y="3524400"/>
                      <a:ext cx="114480" cy="72360"/>
                      <a:chOff x="1278000" y="3524400"/>
                      <a:chExt cx="114480" cy="72360"/>
                    </a:xfrm>
                  </p:grpSpPr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1287720" y="3524400"/>
                        <a:ext cx="10476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1278000" y="3524400"/>
                        <a:ext cx="104040" cy="72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1323000" y="3664440"/>
                      <a:ext cx="38880" cy="70200"/>
                      <a:chOff x="1323000" y="3664440"/>
                      <a:chExt cx="38880" cy="7020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1324080" y="3664440"/>
                        <a:ext cx="36360" cy="702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1323000" y="3672360"/>
                        <a:ext cx="38880" cy="54360"/>
                        <a:chOff x="1323000" y="3672360"/>
                        <a:chExt cx="38880" cy="5436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23000" y="36817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1323000" y="37083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1323000" y="36993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1323000" y="369072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1323000" y="36723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1323000" y="37173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1323000" y="3726360"/>
                          <a:ext cx="38880" cy="3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570680" y="3682800"/>
                      <a:ext cx="10080" cy="15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1462320" y="3482640"/>
                    <a:ext cx="64800" cy="49680"/>
                    <a:chOff x="1462320" y="3482640"/>
                    <a:chExt cx="64800" cy="4968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1497960" y="3497400"/>
                      <a:ext cx="291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120" y="0"/>
                          </a:moveTo>
                          <a:lnTo>
                            <a:pt x="0" y="206"/>
                          </a:lnTo>
                          <a:lnTo>
                            <a:pt x="24" y="245"/>
                          </a:lnTo>
                          <a:lnTo>
                            <a:pt x="144" y="8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1462320" y="3482640"/>
                      <a:ext cx="5688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72">
                          <a:moveTo>
                            <a:pt x="269" y="0"/>
                          </a:moveTo>
                          <a:lnTo>
                            <a:pt x="0" y="39"/>
                          </a:lnTo>
                          <a:lnTo>
                            <a:pt x="40" y="72"/>
                          </a:lnTo>
                          <a:lnTo>
                            <a:pt x="279" y="24"/>
                          </a:lnTo>
                          <a:lnTo>
                            <a:pt x="26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1333800" y="3402000"/>
                    <a:ext cx="212400" cy="231480"/>
                    <a:chOff x="1333800" y="3402000"/>
                    <a:chExt cx="212400" cy="23148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333800" y="3402360"/>
                      <a:ext cx="2124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9" h="1631">
                          <a:moveTo>
                            <a:pt x="33" y="60"/>
                          </a:moveTo>
                          <a:lnTo>
                            <a:pt x="18" y="107"/>
                          </a:lnTo>
                          <a:lnTo>
                            <a:pt x="4" y="167"/>
                          </a:lnTo>
                          <a:lnTo>
                            <a:pt x="0" y="230"/>
                          </a:lnTo>
                          <a:lnTo>
                            <a:pt x="0" y="293"/>
                          </a:lnTo>
                          <a:lnTo>
                            <a:pt x="14" y="376"/>
                          </a:lnTo>
                          <a:lnTo>
                            <a:pt x="26" y="479"/>
                          </a:lnTo>
                          <a:lnTo>
                            <a:pt x="49" y="594"/>
                          </a:lnTo>
                          <a:lnTo>
                            <a:pt x="89" y="725"/>
                          </a:lnTo>
                          <a:lnTo>
                            <a:pt x="148" y="852"/>
                          </a:lnTo>
                          <a:lnTo>
                            <a:pt x="243" y="1002"/>
                          </a:lnTo>
                          <a:lnTo>
                            <a:pt x="338" y="1144"/>
                          </a:lnTo>
                          <a:lnTo>
                            <a:pt x="417" y="1239"/>
                          </a:lnTo>
                          <a:lnTo>
                            <a:pt x="528" y="1354"/>
                          </a:lnTo>
                          <a:lnTo>
                            <a:pt x="642" y="1449"/>
                          </a:lnTo>
                          <a:lnTo>
                            <a:pt x="745" y="1524"/>
                          </a:lnTo>
                          <a:lnTo>
                            <a:pt x="820" y="1571"/>
                          </a:lnTo>
                          <a:lnTo>
                            <a:pt x="895" y="1607"/>
                          </a:lnTo>
                          <a:lnTo>
                            <a:pt x="956" y="1631"/>
                          </a:lnTo>
                          <a:lnTo>
                            <a:pt x="1003" y="1631"/>
                          </a:lnTo>
                          <a:lnTo>
                            <a:pt x="1039" y="1611"/>
                          </a:lnTo>
                          <a:lnTo>
                            <a:pt x="69" y="0"/>
                          </a:lnTo>
                          <a:lnTo>
                            <a:pt x="33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346400" y="3402000"/>
                      <a:ext cx="19944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8" h="1614">
                          <a:moveTo>
                            <a:pt x="8" y="0"/>
                          </a:moveTo>
                          <a:lnTo>
                            <a:pt x="0" y="31"/>
                          </a:lnTo>
                          <a:lnTo>
                            <a:pt x="0" y="102"/>
                          </a:lnTo>
                          <a:lnTo>
                            <a:pt x="4" y="185"/>
                          </a:lnTo>
                          <a:lnTo>
                            <a:pt x="12" y="253"/>
                          </a:lnTo>
                          <a:lnTo>
                            <a:pt x="24" y="340"/>
                          </a:lnTo>
                          <a:lnTo>
                            <a:pt x="40" y="442"/>
                          </a:lnTo>
                          <a:lnTo>
                            <a:pt x="63" y="549"/>
                          </a:lnTo>
                          <a:lnTo>
                            <a:pt x="111" y="685"/>
                          </a:lnTo>
                          <a:lnTo>
                            <a:pt x="182" y="839"/>
                          </a:lnTo>
                          <a:lnTo>
                            <a:pt x="261" y="966"/>
                          </a:lnTo>
                          <a:lnTo>
                            <a:pt x="356" y="1100"/>
                          </a:lnTo>
                          <a:lnTo>
                            <a:pt x="443" y="1203"/>
                          </a:lnTo>
                          <a:lnTo>
                            <a:pt x="510" y="1273"/>
                          </a:lnTo>
                          <a:lnTo>
                            <a:pt x="573" y="1337"/>
                          </a:lnTo>
                          <a:lnTo>
                            <a:pt x="641" y="1400"/>
                          </a:lnTo>
                          <a:lnTo>
                            <a:pt x="716" y="1462"/>
                          </a:lnTo>
                          <a:lnTo>
                            <a:pt x="767" y="1503"/>
                          </a:lnTo>
                          <a:lnTo>
                            <a:pt x="823" y="1539"/>
                          </a:lnTo>
                          <a:lnTo>
                            <a:pt x="883" y="1573"/>
                          </a:lnTo>
                          <a:lnTo>
                            <a:pt x="935" y="1606"/>
                          </a:lnTo>
                          <a:lnTo>
                            <a:pt x="966" y="1614"/>
                          </a:lnTo>
                          <a:lnTo>
                            <a:pt x="978" y="1590"/>
                          </a:lnTo>
                          <a:lnTo>
                            <a:pt x="975" y="1557"/>
                          </a:lnTo>
                          <a:lnTo>
                            <a:pt x="968" y="1519"/>
                          </a:lnTo>
                          <a:lnTo>
                            <a:pt x="954" y="1452"/>
                          </a:lnTo>
                          <a:lnTo>
                            <a:pt x="939" y="1364"/>
                          </a:lnTo>
                          <a:lnTo>
                            <a:pt x="919" y="1282"/>
                          </a:lnTo>
                          <a:lnTo>
                            <a:pt x="895" y="1186"/>
                          </a:lnTo>
                          <a:lnTo>
                            <a:pt x="863" y="1084"/>
                          </a:lnTo>
                          <a:lnTo>
                            <a:pt x="828" y="1004"/>
                          </a:lnTo>
                          <a:lnTo>
                            <a:pt x="799" y="934"/>
                          </a:lnTo>
                          <a:lnTo>
                            <a:pt x="753" y="842"/>
                          </a:lnTo>
                          <a:lnTo>
                            <a:pt x="708" y="760"/>
                          </a:lnTo>
                          <a:lnTo>
                            <a:pt x="654" y="672"/>
                          </a:lnTo>
                          <a:lnTo>
                            <a:pt x="569" y="561"/>
                          </a:lnTo>
                          <a:lnTo>
                            <a:pt x="510" y="482"/>
                          </a:lnTo>
                          <a:lnTo>
                            <a:pt x="424" y="374"/>
                          </a:lnTo>
                          <a:lnTo>
                            <a:pt x="344" y="296"/>
                          </a:lnTo>
                          <a:lnTo>
                            <a:pt x="265" y="216"/>
                          </a:lnTo>
                          <a:lnTo>
                            <a:pt x="206" y="158"/>
                          </a:lnTo>
                          <a:lnTo>
                            <a:pt x="142" y="97"/>
                          </a:lnTo>
                          <a:lnTo>
                            <a:pt x="95" y="55"/>
                          </a:lnTo>
                          <a:lnTo>
                            <a:pt x="48" y="15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1353960" y="3460320"/>
                    <a:ext cx="204120" cy="149760"/>
                    <a:chOff x="1353960" y="3460320"/>
                    <a:chExt cx="204120" cy="14976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353960" y="3460320"/>
                      <a:ext cx="1962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2" h="71">
                          <a:moveTo>
                            <a:pt x="0" y="0"/>
                          </a:moveTo>
                          <a:lnTo>
                            <a:pt x="962" y="39"/>
                          </a:lnTo>
                          <a:lnTo>
                            <a:pt x="954" y="71"/>
                          </a:lnTo>
                          <a:lnTo>
                            <a:pt x="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488960" y="3490560"/>
                      <a:ext cx="6912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1" h="844">
                          <a:moveTo>
                            <a:pt x="302" y="17"/>
                          </a:moveTo>
                          <a:lnTo>
                            <a:pt x="0" y="824"/>
                          </a:lnTo>
                          <a:lnTo>
                            <a:pt x="28" y="844"/>
                          </a:lnTo>
                          <a:lnTo>
                            <a:pt x="341" y="0"/>
                          </a:lnTo>
                          <a:lnTo>
                            <a:pt x="302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1512720" y="3462840"/>
                    <a:ext cx="81360" cy="36720"/>
                    <a:chOff x="1512720" y="3462840"/>
                    <a:chExt cx="81360" cy="367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1512720" y="3466800"/>
                      <a:ext cx="576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230">
                          <a:moveTo>
                            <a:pt x="210" y="0"/>
                          </a:moveTo>
                          <a:lnTo>
                            <a:pt x="11" y="71"/>
                          </a:lnTo>
                          <a:lnTo>
                            <a:pt x="4" y="83"/>
                          </a:lnTo>
                          <a:lnTo>
                            <a:pt x="0" y="107"/>
                          </a:lnTo>
                          <a:lnTo>
                            <a:pt x="2" y="140"/>
                          </a:lnTo>
                          <a:lnTo>
                            <a:pt x="5" y="159"/>
                          </a:lnTo>
                          <a:lnTo>
                            <a:pt x="17" y="188"/>
                          </a:lnTo>
                          <a:lnTo>
                            <a:pt x="37" y="211"/>
                          </a:lnTo>
                          <a:lnTo>
                            <a:pt x="64" y="226"/>
                          </a:lnTo>
                          <a:lnTo>
                            <a:pt x="80" y="230"/>
                          </a:lnTo>
                          <a:lnTo>
                            <a:pt x="96" y="230"/>
                          </a:lnTo>
                          <a:lnTo>
                            <a:pt x="282" y="142"/>
                          </a:lnTo>
                          <a:lnTo>
                            <a:pt x="246" y="114"/>
                          </a:lnTo>
                          <a:lnTo>
                            <a:pt x="226" y="87"/>
                          </a:lnTo>
                          <a:lnTo>
                            <a:pt x="21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546200" y="3462840"/>
                      <a:ext cx="3168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17">
                          <a:moveTo>
                            <a:pt x="92" y="32"/>
                          </a:moveTo>
                          <a:lnTo>
                            <a:pt x="84" y="19"/>
                          </a:lnTo>
                          <a:lnTo>
                            <a:pt x="69" y="7"/>
                          </a:lnTo>
                          <a:lnTo>
                            <a:pt x="41" y="0"/>
                          </a:lnTo>
                          <a:lnTo>
                            <a:pt x="25" y="3"/>
                          </a:lnTo>
                          <a:lnTo>
                            <a:pt x="15" y="15"/>
                          </a:lnTo>
                          <a:lnTo>
                            <a:pt x="5" y="32"/>
                          </a:lnTo>
                          <a:lnTo>
                            <a:pt x="0" y="58"/>
                          </a:lnTo>
                          <a:lnTo>
                            <a:pt x="1" y="73"/>
                          </a:lnTo>
                          <a:lnTo>
                            <a:pt x="4" y="93"/>
                          </a:lnTo>
                          <a:lnTo>
                            <a:pt x="11" y="122"/>
                          </a:lnTo>
                          <a:lnTo>
                            <a:pt x="22" y="145"/>
                          </a:lnTo>
                          <a:lnTo>
                            <a:pt x="36" y="167"/>
                          </a:lnTo>
                          <a:lnTo>
                            <a:pt x="50" y="185"/>
                          </a:lnTo>
                          <a:lnTo>
                            <a:pt x="66" y="201"/>
                          </a:lnTo>
                          <a:lnTo>
                            <a:pt x="86" y="210"/>
                          </a:lnTo>
                          <a:lnTo>
                            <a:pt x="109" y="217"/>
                          </a:lnTo>
                          <a:lnTo>
                            <a:pt x="129" y="217"/>
                          </a:lnTo>
                          <a:lnTo>
                            <a:pt x="148" y="206"/>
                          </a:lnTo>
                          <a:lnTo>
                            <a:pt x="156" y="189"/>
                          </a:lnTo>
                          <a:lnTo>
                            <a:pt x="157" y="165"/>
                          </a:lnTo>
                          <a:lnTo>
                            <a:pt x="152" y="139"/>
                          </a:lnTo>
                          <a:lnTo>
                            <a:pt x="140" y="103"/>
                          </a:lnTo>
                          <a:lnTo>
                            <a:pt x="112" y="58"/>
                          </a:lnTo>
                          <a:lnTo>
                            <a:pt x="92" y="3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1554840" y="3464280"/>
                      <a:ext cx="39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155">
                          <a:moveTo>
                            <a:pt x="14" y="35"/>
                          </a:moveTo>
                          <a:lnTo>
                            <a:pt x="135" y="4"/>
                          </a:lnTo>
                          <a:lnTo>
                            <a:pt x="164" y="0"/>
                          </a:lnTo>
                          <a:lnTo>
                            <a:pt x="184" y="4"/>
                          </a:lnTo>
                          <a:lnTo>
                            <a:pt x="191" y="12"/>
                          </a:lnTo>
                          <a:lnTo>
                            <a:pt x="192" y="28"/>
                          </a:lnTo>
                          <a:lnTo>
                            <a:pt x="184" y="52"/>
                          </a:lnTo>
                          <a:lnTo>
                            <a:pt x="72" y="155"/>
                          </a:lnTo>
                          <a:lnTo>
                            <a:pt x="56" y="153"/>
                          </a:lnTo>
                          <a:lnTo>
                            <a:pt x="38" y="147"/>
                          </a:lnTo>
                          <a:lnTo>
                            <a:pt x="25" y="133"/>
                          </a:lnTo>
                          <a:lnTo>
                            <a:pt x="9" y="114"/>
                          </a:lnTo>
                          <a:lnTo>
                            <a:pt x="1" y="94"/>
                          </a:lnTo>
                          <a:lnTo>
                            <a:pt x="0" y="72"/>
                          </a:lnTo>
                          <a:lnTo>
                            <a:pt x="5" y="50"/>
                          </a:lnTo>
                          <a:lnTo>
                            <a:pt x="14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1524960" y="347508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5" y="0"/>
                          </a:moveTo>
                          <a:lnTo>
                            <a:pt x="0" y="26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3" y="99"/>
                          </a:lnTo>
                          <a:lnTo>
                            <a:pt x="30" y="122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1535400" y="3472200"/>
                      <a:ext cx="16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56">
                          <a:moveTo>
                            <a:pt x="6" y="0"/>
                          </a:moveTo>
                          <a:lnTo>
                            <a:pt x="0" y="25"/>
                          </a:lnTo>
                          <a:lnTo>
                            <a:pt x="0" y="48"/>
                          </a:lnTo>
                          <a:lnTo>
                            <a:pt x="7" y="76"/>
                          </a:lnTo>
                          <a:lnTo>
                            <a:pt x="14" y="99"/>
                          </a:lnTo>
                          <a:lnTo>
                            <a:pt x="31" y="120"/>
                          </a:lnTo>
                          <a:lnTo>
                            <a:pt x="46" y="136"/>
                          </a:lnTo>
                          <a:lnTo>
                            <a:pt x="58" y="144"/>
                          </a:lnTo>
                          <a:lnTo>
                            <a:pt x="70" y="149"/>
                          </a:lnTo>
                          <a:lnTo>
                            <a:pt x="83" y="15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11" name=""/>
                <p:cNvSpPr/>
                <p:nvPr/>
              </p:nvSpPr>
              <p:spPr>
                <a:xfrm flipH="1">
                  <a:off x="1359000" y="3639240"/>
                  <a:ext cx="252000" cy="127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 flipH="1">
                <a:off x="1244520" y="3591360"/>
                <a:ext cx="6876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1243080" y="3756960"/>
              <a:ext cx="336960" cy="3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12880" y="3887640"/>
            <a:ext cx="1245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ATO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chor 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Out of Theat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374840" y="24876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1701360" y="2554200"/>
            <a:ext cx="6372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02480" y="5272200"/>
            <a:ext cx="653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4902120"/>
            <a:ext cx="6508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2650200">
            <a:off x="1635120" y="3859200"/>
            <a:ext cx="673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2480" y="3084480"/>
            <a:ext cx="1238400" cy="1492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27760" y="1019160"/>
            <a:ext cx="7318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165800" y="1912680"/>
            <a:ext cx="32724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182000" y="2449080"/>
            <a:ext cx="268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182000" y="3076560"/>
            <a:ext cx="2664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82000" y="3532320"/>
            <a:ext cx="33012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82000" y="3924360"/>
            <a:ext cx="3981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9800" y="1739880"/>
            <a:ext cx="2109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ssible Types of  Com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72360" y="2097000"/>
            <a:ext cx="784080" cy="202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635160" y="2163240"/>
            <a:ext cx="240120" cy="241920"/>
            <a:chOff x="6635160" y="2163240"/>
            <a:chExt cx="240120" cy="241920"/>
          </a:xfrm>
        </p:grpSpPr>
        <p:grpSp>
          <p:nvGrpSpPr>
            <p:cNvPr id="630" name=""/>
            <p:cNvGrpSpPr/>
            <p:nvPr/>
          </p:nvGrpSpPr>
          <p:grpSpPr>
            <a:xfrm>
              <a:off x="6636600" y="2163240"/>
              <a:ext cx="238680" cy="241920"/>
              <a:chOff x="6636600" y="2163240"/>
              <a:chExt cx="238680" cy="24192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6636600" y="2163240"/>
                <a:ext cx="236880" cy="238320"/>
                <a:chOff x="6636600" y="2163240"/>
                <a:chExt cx="236880" cy="23832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6636600" y="2171880"/>
                  <a:ext cx="236880" cy="229680"/>
                  <a:chOff x="6636600" y="2171880"/>
                  <a:chExt cx="236880" cy="229680"/>
                </a:xfrm>
              </p:grpSpPr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6721560" y="2307960"/>
                    <a:ext cx="7560" cy="29160"/>
                    <a:chOff x="6721560" y="2307960"/>
                    <a:chExt cx="7560" cy="2916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721560" y="2308320"/>
                      <a:ext cx="7560" cy="28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6724800" y="2307960"/>
                      <a:ext cx="360" cy="266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6" name=""/>
                  <p:cNvSpPr/>
                  <p:nvPr/>
                </p:nvSpPr>
                <p:spPr>
                  <a:xfrm>
                    <a:off x="6685920" y="2289600"/>
                    <a:ext cx="25200" cy="4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781320" y="229932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5">
                        <a:moveTo>
                          <a:pt x="0" y="0"/>
                        </a:moveTo>
                        <a:lnTo>
                          <a:pt x="0" y="105"/>
                        </a:lnTo>
                        <a:lnTo>
                          <a:pt x="126" y="105"/>
                        </a:lnTo>
                        <a:lnTo>
                          <a:pt x="126" y="2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746040" y="2280600"/>
                    <a:ext cx="115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95">
                        <a:moveTo>
                          <a:pt x="48" y="0"/>
                        </a:moveTo>
                        <a:lnTo>
                          <a:pt x="0" y="95"/>
                        </a:lnTo>
                        <a:lnTo>
                          <a:pt x="64" y="87"/>
                        </a:lnTo>
                        <a:lnTo>
                          <a:pt x="87" y="24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725880" y="2340720"/>
                    <a:ext cx="536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33">
                        <a:moveTo>
                          <a:pt x="0" y="0"/>
                        </a:moveTo>
                        <a:lnTo>
                          <a:pt x="402" y="0"/>
                        </a:lnTo>
                        <a:lnTo>
                          <a:pt x="402" y="33"/>
                        </a:lnTo>
                        <a:lnTo>
                          <a:pt x="5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684840" y="2222640"/>
                    <a:ext cx="22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5">
                        <a:moveTo>
                          <a:pt x="158" y="0"/>
                        </a:moveTo>
                        <a:lnTo>
                          <a:pt x="2" y="147"/>
                        </a:lnTo>
                        <a:lnTo>
                          <a:pt x="0" y="205"/>
                        </a:lnTo>
                        <a:lnTo>
                          <a:pt x="168" y="68"/>
                        </a:lnTo>
                        <a:lnTo>
                          <a:pt x="15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679080" y="2171880"/>
                    <a:ext cx="338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1749">
                        <a:moveTo>
                          <a:pt x="254" y="0"/>
                        </a:moveTo>
                        <a:lnTo>
                          <a:pt x="0" y="103"/>
                        </a:lnTo>
                        <a:lnTo>
                          <a:pt x="0" y="1749"/>
                        </a:lnTo>
                        <a:lnTo>
                          <a:pt x="47" y="1749"/>
                        </a:lnTo>
                        <a:lnTo>
                          <a:pt x="47" y="253"/>
                        </a:lnTo>
                        <a:lnTo>
                          <a:pt x="254" y="166"/>
                        </a:lnTo>
                        <a:lnTo>
                          <a:pt x="2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678000" y="2336760"/>
                    <a:ext cx="1954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8" h="381">
                        <a:moveTo>
                          <a:pt x="0" y="381"/>
                        </a:moveTo>
                        <a:lnTo>
                          <a:pt x="0" y="0"/>
                        </a:lnTo>
                        <a:lnTo>
                          <a:pt x="317" y="0"/>
                        </a:lnTo>
                        <a:lnTo>
                          <a:pt x="381" y="64"/>
                        </a:lnTo>
                        <a:lnTo>
                          <a:pt x="571" y="64"/>
                        </a:lnTo>
                        <a:lnTo>
                          <a:pt x="634" y="128"/>
                        </a:lnTo>
                        <a:lnTo>
                          <a:pt x="1268" y="128"/>
                        </a:lnTo>
                        <a:lnTo>
                          <a:pt x="1268" y="255"/>
                        </a:lnTo>
                        <a:lnTo>
                          <a:pt x="1458" y="255"/>
                        </a:lnTo>
                        <a:lnTo>
                          <a:pt x="1458" y="381"/>
                        </a:lnTo>
                        <a:lnTo>
                          <a:pt x="0" y="38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678720" y="2361600"/>
                    <a:ext cx="143280" cy="1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671520" y="2286720"/>
                    <a:ext cx="360" cy="208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666120" y="2307600"/>
                    <a:ext cx="12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95" y="0"/>
                        </a:lnTo>
                        <a:lnTo>
                          <a:pt x="95" y="39"/>
                        </a:lnTo>
                        <a:lnTo>
                          <a:pt x="31" y="39"/>
                        </a:lnTo>
                        <a:lnTo>
                          <a:pt x="31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737400" y="2300400"/>
                    <a:ext cx="432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460">
                        <a:moveTo>
                          <a:pt x="0" y="0"/>
                        </a:moveTo>
                        <a:lnTo>
                          <a:pt x="324" y="460"/>
                        </a:lnTo>
                        <a:lnTo>
                          <a:pt x="277" y="451"/>
                        </a:lnTo>
                        <a:lnTo>
                          <a:pt x="0" y="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644160" y="2324880"/>
                    <a:ext cx="33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507">
                        <a:moveTo>
                          <a:pt x="190" y="0"/>
                        </a:moveTo>
                        <a:lnTo>
                          <a:pt x="0" y="190"/>
                        </a:lnTo>
                        <a:lnTo>
                          <a:pt x="0" y="507"/>
                        </a:lnTo>
                        <a:lnTo>
                          <a:pt x="253" y="507"/>
                        </a:lnTo>
                        <a:lnTo>
                          <a:pt x="253" y="126"/>
                        </a:lnTo>
                        <a:lnTo>
                          <a:pt x="1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636600" y="2396160"/>
                    <a:ext cx="236160" cy="540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636600" y="2385360"/>
                    <a:ext cx="236160" cy="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636600" y="2373480"/>
                    <a:ext cx="236160" cy="1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841800" y="2364480"/>
                    <a:ext cx="24120" cy="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661080" y="2319120"/>
                    <a:ext cx="16560" cy="1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721560" y="2295360"/>
                    <a:ext cx="15120" cy="1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712200" y="2288880"/>
                    <a:ext cx="67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6" h="506">
                        <a:moveTo>
                          <a:pt x="63" y="506"/>
                        </a:moveTo>
                        <a:lnTo>
                          <a:pt x="63" y="63"/>
                        </a:lnTo>
                        <a:lnTo>
                          <a:pt x="506" y="63"/>
                        </a:lnTo>
                        <a:lnTo>
                          <a:pt x="506" y="0"/>
                        </a:lnTo>
                        <a:lnTo>
                          <a:pt x="0" y="0"/>
                        </a:lnTo>
                        <a:lnTo>
                          <a:pt x="0" y="506"/>
                        </a:lnTo>
                        <a:lnTo>
                          <a:pt x="63" y="5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6657120" y="2244240"/>
                    <a:ext cx="75240" cy="47880"/>
                    <a:chOff x="6657120" y="2244240"/>
                    <a:chExt cx="75240" cy="478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663600" y="2244240"/>
                      <a:ext cx="68760" cy="47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6657120" y="2244240"/>
                      <a:ext cx="68400" cy="47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686280" y="2337480"/>
                    <a:ext cx="25560" cy="46440"/>
                    <a:chOff x="6686280" y="2337480"/>
                    <a:chExt cx="25560" cy="4644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687000" y="2337480"/>
                      <a:ext cx="24120" cy="46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6686280" y="2342520"/>
                      <a:ext cx="25560" cy="36000"/>
                      <a:chOff x="6686280" y="2342520"/>
                      <a:chExt cx="25560" cy="3600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6686280" y="234864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6686280" y="236664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6686280" y="236052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6686280" y="235440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6686280" y="234252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6686280" y="237240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6686280" y="2378520"/>
                        <a:ext cx="2556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68" name=""/>
                  <p:cNvSpPr/>
                  <p:nvPr/>
                </p:nvSpPr>
                <p:spPr>
                  <a:xfrm>
                    <a:off x="6849000" y="2349720"/>
                    <a:ext cx="6480" cy="1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6778080" y="2216520"/>
                  <a:ext cx="42480" cy="32760"/>
                  <a:chOff x="6778080" y="2216520"/>
                  <a:chExt cx="42480" cy="327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6801480" y="2226240"/>
                    <a:ext cx="190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45">
                        <a:moveTo>
                          <a:pt x="120" y="0"/>
                        </a:moveTo>
                        <a:lnTo>
                          <a:pt x="0" y="206"/>
                        </a:lnTo>
                        <a:lnTo>
                          <a:pt x="24" y="245"/>
                        </a:lnTo>
                        <a:lnTo>
                          <a:pt x="144" y="8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778080" y="2216520"/>
                    <a:ext cx="374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72">
                        <a:moveTo>
                          <a:pt x="269" y="0"/>
                        </a:moveTo>
                        <a:lnTo>
                          <a:pt x="0" y="39"/>
                        </a:lnTo>
                        <a:lnTo>
                          <a:pt x="40" y="72"/>
                        </a:lnTo>
                        <a:lnTo>
                          <a:pt x="279" y="24"/>
                        </a:lnTo>
                        <a:lnTo>
                          <a:pt x="26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6693480" y="2163240"/>
                  <a:ext cx="139320" cy="153720"/>
                  <a:chOff x="6693480" y="2163240"/>
                  <a:chExt cx="139320" cy="1537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6693480" y="2163240"/>
                    <a:ext cx="1393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9" h="1631">
                        <a:moveTo>
                          <a:pt x="33" y="60"/>
                        </a:moveTo>
                        <a:lnTo>
                          <a:pt x="18" y="107"/>
                        </a:lnTo>
                        <a:lnTo>
                          <a:pt x="4" y="167"/>
                        </a:lnTo>
                        <a:lnTo>
                          <a:pt x="0" y="230"/>
                        </a:lnTo>
                        <a:lnTo>
                          <a:pt x="0" y="293"/>
                        </a:lnTo>
                        <a:lnTo>
                          <a:pt x="14" y="376"/>
                        </a:lnTo>
                        <a:lnTo>
                          <a:pt x="26" y="479"/>
                        </a:lnTo>
                        <a:lnTo>
                          <a:pt x="49" y="594"/>
                        </a:lnTo>
                        <a:lnTo>
                          <a:pt x="89" y="725"/>
                        </a:lnTo>
                        <a:lnTo>
                          <a:pt x="148" y="852"/>
                        </a:lnTo>
                        <a:lnTo>
                          <a:pt x="243" y="1002"/>
                        </a:lnTo>
                        <a:lnTo>
                          <a:pt x="338" y="1144"/>
                        </a:lnTo>
                        <a:lnTo>
                          <a:pt x="417" y="1239"/>
                        </a:lnTo>
                        <a:lnTo>
                          <a:pt x="528" y="1354"/>
                        </a:lnTo>
                        <a:lnTo>
                          <a:pt x="642" y="1449"/>
                        </a:lnTo>
                        <a:lnTo>
                          <a:pt x="745" y="1524"/>
                        </a:lnTo>
                        <a:lnTo>
                          <a:pt x="820" y="1571"/>
                        </a:lnTo>
                        <a:lnTo>
                          <a:pt x="895" y="1607"/>
                        </a:lnTo>
                        <a:lnTo>
                          <a:pt x="956" y="1631"/>
                        </a:lnTo>
                        <a:lnTo>
                          <a:pt x="1003" y="1631"/>
                        </a:lnTo>
                        <a:lnTo>
                          <a:pt x="1039" y="1611"/>
                        </a:lnTo>
                        <a:lnTo>
                          <a:pt x="69" y="0"/>
                        </a:lnTo>
                        <a:lnTo>
                          <a:pt x="33" y="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701760" y="2163240"/>
                    <a:ext cx="1310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978" h="1614">
                        <a:moveTo>
                          <a:pt x="8" y="0"/>
                        </a:moveTo>
                        <a:lnTo>
                          <a:pt x="0" y="31"/>
                        </a:lnTo>
                        <a:lnTo>
                          <a:pt x="0" y="102"/>
                        </a:lnTo>
                        <a:lnTo>
                          <a:pt x="4" y="185"/>
                        </a:lnTo>
                        <a:lnTo>
                          <a:pt x="12" y="253"/>
                        </a:lnTo>
                        <a:lnTo>
                          <a:pt x="24" y="340"/>
                        </a:lnTo>
                        <a:lnTo>
                          <a:pt x="40" y="442"/>
                        </a:lnTo>
                        <a:lnTo>
                          <a:pt x="63" y="549"/>
                        </a:lnTo>
                        <a:lnTo>
                          <a:pt x="111" y="685"/>
                        </a:lnTo>
                        <a:lnTo>
                          <a:pt x="182" y="839"/>
                        </a:lnTo>
                        <a:lnTo>
                          <a:pt x="261" y="966"/>
                        </a:lnTo>
                        <a:lnTo>
                          <a:pt x="356" y="1100"/>
                        </a:lnTo>
                        <a:lnTo>
                          <a:pt x="443" y="1203"/>
                        </a:lnTo>
                        <a:lnTo>
                          <a:pt x="510" y="1273"/>
                        </a:lnTo>
                        <a:lnTo>
                          <a:pt x="573" y="1337"/>
                        </a:lnTo>
                        <a:lnTo>
                          <a:pt x="641" y="1400"/>
                        </a:lnTo>
                        <a:lnTo>
                          <a:pt x="716" y="1462"/>
                        </a:lnTo>
                        <a:lnTo>
                          <a:pt x="767" y="1503"/>
                        </a:lnTo>
                        <a:lnTo>
                          <a:pt x="823" y="1539"/>
                        </a:lnTo>
                        <a:lnTo>
                          <a:pt x="883" y="1573"/>
                        </a:lnTo>
                        <a:lnTo>
                          <a:pt x="935" y="1606"/>
                        </a:lnTo>
                        <a:lnTo>
                          <a:pt x="966" y="1614"/>
                        </a:lnTo>
                        <a:lnTo>
                          <a:pt x="978" y="1590"/>
                        </a:lnTo>
                        <a:lnTo>
                          <a:pt x="975" y="1557"/>
                        </a:lnTo>
                        <a:lnTo>
                          <a:pt x="968" y="1519"/>
                        </a:lnTo>
                        <a:lnTo>
                          <a:pt x="954" y="1452"/>
                        </a:lnTo>
                        <a:lnTo>
                          <a:pt x="939" y="1364"/>
                        </a:lnTo>
                        <a:lnTo>
                          <a:pt x="919" y="1282"/>
                        </a:lnTo>
                        <a:lnTo>
                          <a:pt x="895" y="1186"/>
                        </a:lnTo>
                        <a:lnTo>
                          <a:pt x="863" y="1084"/>
                        </a:lnTo>
                        <a:lnTo>
                          <a:pt x="828" y="1004"/>
                        </a:lnTo>
                        <a:lnTo>
                          <a:pt x="799" y="934"/>
                        </a:lnTo>
                        <a:lnTo>
                          <a:pt x="753" y="842"/>
                        </a:lnTo>
                        <a:lnTo>
                          <a:pt x="708" y="760"/>
                        </a:lnTo>
                        <a:lnTo>
                          <a:pt x="654" y="672"/>
                        </a:lnTo>
                        <a:lnTo>
                          <a:pt x="569" y="561"/>
                        </a:lnTo>
                        <a:lnTo>
                          <a:pt x="510" y="482"/>
                        </a:lnTo>
                        <a:lnTo>
                          <a:pt x="424" y="374"/>
                        </a:lnTo>
                        <a:lnTo>
                          <a:pt x="344" y="296"/>
                        </a:lnTo>
                        <a:lnTo>
                          <a:pt x="265" y="216"/>
                        </a:lnTo>
                        <a:lnTo>
                          <a:pt x="206" y="158"/>
                        </a:lnTo>
                        <a:lnTo>
                          <a:pt x="142" y="97"/>
                        </a:lnTo>
                        <a:lnTo>
                          <a:pt x="95" y="55"/>
                        </a:lnTo>
                        <a:lnTo>
                          <a:pt x="48" y="15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6706800" y="2201760"/>
                  <a:ext cx="133920" cy="99000"/>
                  <a:chOff x="6706800" y="2201760"/>
                  <a:chExt cx="133920" cy="9900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6706800" y="2201760"/>
                    <a:ext cx="128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71">
                        <a:moveTo>
                          <a:pt x="0" y="0"/>
                        </a:moveTo>
                        <a:lnTo>
                          <a:pt x="962" y="39"/>
                        </a:lnTo>
                        <a:lnTo>
                          <a:pt x="954" y="71"/>
                        </a:lnTo>
                        <a:lnTo>
                          <a:pt x="4" y="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795360" y="2221560"/>
                    <a:ext cx="45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844">
                        <a:moveTo>
                          <a:pt x="302" y="17"/>
                        </a:moveTo>
                        <a:lnTo>
                          <a:pt x="0" y="824"/>
                        </a:lnTo>
                        <a:lnTo>
                          <a:pt x="28" y="844"/>
                        </a:lnTo>
                        <a:lnTo>
                          <a:pt x="341" y="0"/>
                        </a:lnTo>
                        <a:lnTo>
                          <a:pt x="30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6810840" y="2203560"/>
                  <a:ext cx="53280" cy="24120"/>
                  <a:chOff x="6810840" y="2203560"/>
                  <a:chExt cx="53280" cy="2412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6810840" y="2206080"/>
                    <a:ext cx="378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230">
                        <a:moveTo>
                          <a:pt x="210" y="0"/>
                        </a:moveTo>
                        <a:lnTo>
                          <a:pt x="11" y="71"/>
                        </a:lnTo>
                        <a:lnTo>
                          <a:pt x="4" y="83"/>
                        </a:lnTo>
                        <a:lnTo>
                          <a:pt x="0" y="107"/>
                        </a:lnTo>
                        <a:lnTo>
                          <a:pt x="2" y="140"/>
                        </a:lnTo>
                        <a:lnTo>
                          <a:pt x="5" y="159"/>
                        </a:lnTo>
                        <a:lnTo>
                          <a:pt x="17" y="188"/>
                        </a:lnTo>
                        <a:lnTo>
                          <a:pt x="37" y="211"/>
                        </a:lnTo>
                        <a:lnTo>
                          <a:pt x="64" y="226"/>
                        </a:lnTo>
                        <a:lnTo>
                          <a:pt x="80" y="230"/>
                        </a:lnTo>
                        <a:lnTo>
                          <a:pt x="96" y="230"/>
                        </a:lnTo>
                        <a:lnTo>
                          <a:pt x="282" y="142"/>
                        </a:lnTo>
                        <a:lnTo>
                          <a:pt x="246" y="114"/>
                        </a:lnTo>
                        <a:lnTo>
                          <a:pt x="226" y="87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832800" y="2203560"/>
                    <a:ext cx="20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217">
                        <a:moveTo>
                          <a:pt x="92" y="32"/>
                        </a:moveTo>
                        <a:lnTo>
                          <a:pt x="84" y="19"/>
                        </a:lnTo>
                        <a:lnTo>
                          <a:pt x="69" y="7"/>
                        </a:lnTo>
                        <a:lnTo>
                          <a:pt x="41" y="0"/>
                        </a:lnTo>
                        <a:lnTo>
                          <a:pt x="25" y="3"/>
                        </a:lnTo>
                        <a:lnTo>
                          <a:pt x="15" y="15"/>
                        </a:lnTo>
                        <a:lnTo>
                          <a:pt x="5" y="32"/>
                        </a:lnTo>
                        <a:lnTo>
                          <a:pt x="0" y="58"/>
                        </a:lnTo>
                        <a:lnTo>
                          <a:pt x="1" y="73"/>
                        </a:lnTo>
                        <a:lnTo>
                          <a:pt x="4" y="93"/>
                        </a:lnTo>
                        <a:lnTo>
                          <a:pt x="11" y="122"/>
                        </a:lnTo>
                        <a:lnTo>
                          <a:pt x="22" y="145"/>
                        </a:lnTo>
                        <a:lnTo>
                          <a:pt x="36" y="167"/>
                        </a:lnTo>
                        <a:lnTo>
                          <a:pt x="50" y="185"/>
                        </a:lnTo>
                        <a:lnTo>
                          <a:pt x="66" y="201"/>
                        </a:lnTo>
                        <a:lnTo>
                          <a:pt x="86" y="210"/>
                        </a:lnTo>
                        <a:lnTo>
                          <a:pt x="109" y="217"/>
                        </a:lnTo>
                        <a:lnTo>
                          <a:pt x="129" y="217"/>
                        </a:lnTo>
                        <a:lnTo>
                          <a:pt x="148" y="206"/>
                        </a:lnTo>
                        <a:lnTo>
                          <a:pt x="156" y="189"/>
                        </a:lnTo>
                        <a:lnTo>
                          <a:pt x="157" y="165"/>
                        </a:lnTo>
                        <a:lnTo>
                          <a:pt x="152" y="139"/>
                        </a:lnTo>
                        <a:lnTo>
                          <a:pt x="140" y="103"/>
                        </a:lnTo>
                        <a:lnTo>
                          <a:pt x="112" y="58"/>
                        </a:lnTo>
                        <a:lnTo>
                          <a:pt x="92" y="3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838560" y="2204640"/>
                    <a:ext cx="255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55">
                        <a:moveTo>
                          <a:pt x="14" y="35"/>
                        </a:moveTo>
                        <a:lnTo>
                          <a:pt x="135" y="4"/>
                        </a:lnTo>
                        <a:lnTo>
                          <a:pt x="164" y="0"/>
                        </a:lnTo>
                        <a:lnTo>
                          <a:pt x="184" y="4"/>
                        </a:lnTo>
                        <a:lnTo>
                          <a:pt x="191" y="12"/>
                        </a:lnTo>
                        <a:lnTo>
                          <a:pt x="192" y="28"/>
                        </a:lnTo>
                        <a:lnTo>
                          <a:pt x="184" y="52"/>
                        </a:lnTo>
                        <a:lnTo>
                          <a:pt x="72" y="155"/>
                        </a:lnTo>
                        <a:lnTo>
                          <a:pt x="56" y="153"/>
                        </a:lnTo>
                        <a:lnTo>
                          <a:pt x="38" y="147"/>
                        </a:lnTo>
                        <a:lnTo>
                          <a:pt x="25" y="133"/>
                        </a:lnTo>
                        <a:lnTo>
                          <a:pt x="9" y="114"/>
                        </a:lnTo>
                        <a:lnTo>
                          <a:pt x="1" y="94"/>
                        </a:lnTo>
                        <a:lnTo>
                          <a:pt x="0" y="72"/>
                        </a:lnTo>
                        <a:lnTo>
                          <a:pt x="5" y="50"/>
                        </a:lnTo>
                        <a:lnTo>
                          <a:pt x="14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6818760" y="2211480"/>
                    <a:ext cx="111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6">
                        <a:moveTo>
                          <a:pt x="5" y="0"/>
                        </a:moveTo>
                        <a:lnTo>
                          <a:pt x="0" y="26"/>
                        </a:lnTo>
                        <a:lnTo>
                          <a:pt x="0" y="48"/>
                        </a:lnTo>
                        <a:lnTo>
                          <a:pt x="7" y="76"/>
                        </a:lnTo>
                        <a:lnTo>
                          <a:pt x="13" y="99"/>
                        </a:lnTo>
                        <a:lnTo>
                          <a:pt x="30" y="122"/>
                        </a:lnTo>
                        <a:lnTo>
                          <a:pt x="46" y="136"/>
                        </a:lnTo>
                        <a:lnTo>
                          <a:pt x="58" y="144"/>
                        </a:lnTo>
                        <a:lnTo>
                          <a:pt x="70" y="149"/>
                        </a:lnTo>
                        <a:lnTo>
                          <a:pt x="83" y="156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825600" y="2209680"/>
                    <a:ext cx="111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6">
                        <a:moveTo>
                          <a:pt x="6" y="0"/>
                        </a:moveTo>
                        <a:lnTo>
                          <a:pt x="0" y="25"/>
                        </a:lnTo>
                        <a:lnTo>
                          <a:pt x="0" y="48"/>
                        </a:lnTo>
                        <a:lnTo>
                          <a:pt x="7" y="76"/>
                        </a:lnTo>
                        <a:lnTo>
                          <a:pt x="14" y="99"/>
                        </a:lnTo>
                        <a:lnTo>
                          <a:pt x="31" y="120"/>
                        </a:lnTo>
                        <a:lnTo>
                          <a:pt x="46" y="136"/>
                        </a:lnTo>
                        <a:lnTo>
                          <a:pt x="58" y="144"/>
                        </a:lnTo>
                        <a:lnTo>
                          <a:pt x="70" y="149"/>
                        </a:lnTo>
                        <a:lnTo>
                          <a:pt x="83" y="156"/>
                        </a:lnTo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4" name=""/>
              <p:cNvSpPr/>
              <p:nvPr/>
            </p:nvSpPr>
            <p:spPr>
              <a:xfrm flipH="1">
                <a:off x="6709680" y="2320560"/>
                <a:ext cx="165240" cy="8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 flipH="1">
              <a:off x="6634800" y="2288880"/>
              <a:ext cx="4500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6634080" y="2398680"/>
            <a:ext cx="22068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56480" y="3525840"/>
            <a:ext cx="30240" cy="31680"/>
          </a:xfrm>
          <a:custGeom>
            <a:avLst/>
            <a:gdLst/>
            <a:ahLst/>
            <a:rect l="l" t="t" r="r" b="b"/>
            <a:pathLst>
              <a:path w="23" h="23">
                <a:moveTo>
                  <a:pt x="4" y="4"/>
                </a:moveTo>
                <a:lnTo>
                  <a:pt x="12" y="0"/>
                </a:lnTo>
                <a:lnTo>
                  <a:pt x="19" y="4"/>
                </a:lnTo>
                <a:lnTo>
                  <a:pt x="23" y="18"/>
                </a:lnTo>
                <a:lnTo>
                  <a:pt x="12" y="23"/>
                </a:lnTo>
                <a:lnTo>
                  <a:pt x="0" y="18"/>
                </a:lnTo>
                <a:lnTo>
                  <a:pt x="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699240" y="3763800"/>
            <a:ext cx="146160" cy="25560"/>
          </a:xfrm>
          <a:custGeom>
            <a:avLst/>
            <a:gdLst/>
            <a:ahLst/>
            <a:rect l="l" t="t" r="r" b="b"/>
            <a:pathLst>
              <a:path w="118" h="18">
                <a:moveTo>
                  <a:pt x="0" y="18"/>
                </a:moveTo>
                <a:lnTo>
                  <a:pt x="59" y="0"/>
                </a:lnTo>
                <a:lnTo>
                  <a:pt x="118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99240" y="3513240"/>
            <a:ext cx="146160" cy="30168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59" y="0"/>
                </a:moveTo>
                <a:lnTo>
                  <a:pt x="59" y="221"/>
                </a:lnTo>
                <a:lnTo>
                  <a:pt x="0" y="202"/>
                </a:lnTo>
                <a:lnTo>
                  <a:pt x="59" y="0"/>
                </a:lnTo>
                <a:lnTo>
                  <a:pt x="118" y="202"/>
                </a:lnTo>
                <a:lnTo>
                  <a:pt x="59" y="2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53240" y="3581280"/>
            <a:ext cx="38160" cy="7920"/>
          </a:xfrm>
          <a:custGeom>
            <a:avLst/>
            <a:gdLst/>
            <a:ahLst/>
            <a:rect l="l" t="t" r="r" b="b"/>
            <a:pathLst>
              <a:path w="29" h="5">
                <a:moveTo>
                  <a:pt x="0" y="0"/>
                </a:moveTo>
                <a:lnTo>
                  <a:pt x="15" y="5"/>
                </a:lnTo>
                <a:lnTo>
                  <a:pt x="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48560" y="3603600"/>
            <a:ext cx="48960" cy="11160"/>
          </a:xfrm>
          <a:custGeom>
            <a:avLst/>
            <a:gdLst/>
            <a:ahLst/>
            <a:rect l="l" t="t" r="r" b="b"/>
            <a:pathLst>
              <a:path w="40" h="7">
                <a:moveTo>
                  <a:pt x="0" y="0"/>
                </a:moveTo>
                <a:lnTo>
                  <a:pt x="20" y="7"/>
                </a:lnTo>
                <a:lnTo>
                  <a:pt x="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42080" y="3627360"/>
            <a:ext cx="58680" cy="11160"/>
          </a:xfrm>
          <a:custGeom>
            <a:avLst/>
            <a:gdLst/>
            <a:ahLst/>
            <a:rect l="l" t="t" r="r" b="b"/>
            <a:pathLst>
              <a:path w="49" h="8">
                <a:moveTo>
                  <a:pt x="0" y="0"/>
                </a:moveTo>
                <a:lnTo>
                  <a:pt x="25" y="8"/>
                </a:lnTo>
                <a:lnTo>
                  <a:pt x="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34160" y="3651120"/>
            <a:ext cx="76320" cy="12960"/>
          </a:xfrm>
          <a:custGeom>
            <a:avLst/>
            <a:gdLst/>
            <a:ahLst/>
            <a:rect l="l" t="t" r="r" b="b"/>
            <a:pathLst>
              <a:path w="59" h="10">
                <a:moveTo>
                  <a:pt x="0" y="0"/>
                </a:moveTo>
                <a:lnTo>
                  <a:pt x="30" y="10"/>
                </a:lnTo>
                <a:lnTo>
                  <a:pt x="5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23000" y="3697200"/>
            <a:ext cx="100080" cy="15840"/>
          </a:xfrm>
          <a:custGeom>
            <a:avLst/>
            <a:gdLst/>
            <a:ahLst/>
            <a:rect l="l" t="t" r="r" b="b"/>
            <a:pathLst>
              <a:path w="79" h="12">
                <a:moveTo>
                  <a:pt x="0" y="0"/>
                </a:moveTo>
                <a:lnTo>
                  <a:pt x="40" y="12"/>
                </a:lnTo>
                <a:lnTo>
                  <a:pt x="7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5080" y="3720960"/>
            <a:ext cx="114480" cy="19080"/>
          </a:xfrm>
          <a:custGeom>
            <a:avLst/>
            <a:gdLst/>
            <a:ahLst/>
            <a:rect l="l" t="t" r="r" b="b"/>
            <a:pathLst>
              <a:path w="89" h="14">
                <a:moveTo>
                  <a:pt x="0" y="0"/>
                </a:moveTo>
                <a:lnTo>
                  <a:pt x="45" y="14"/>
                </a:lnTo>
                <a:lnTo>
                  <a:pt x="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699240" y="3727440"/>
            <a:ext cx="123840" cy="20520"/>
          </a:xfrm>
          <a:custGeom>
            <a:avLst/>
            <a:gdLst/>
            <a:ahLst/>
            <a:rect l="l" t="t" r="r" b="b"/>
            <a:pathLst>
              <a:path w="99" h="15">
                <a:moveTo>
                  <a:pt x="0" y="0"/>
                </a:moveTo>
                <a:lnTo>
                  <a:pt x="50" y="15"/>
                </a:lnTo>
                <a:lnTo>
                  <a:pt x="9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702480" y="3765600"/>
            <a:ext cx="136440" cy="23760"/>
          </a:xfrm>
          <a:custGeom>
            <a:avLst/>
            <a:gdLst/>
            <a:ahLst/>
            <a:rect l="l" t="t" r="r" b="b"/>
            <a:pathLst>
              <a:path w="108" h="17">
                <a:moveTo>
                  <a:pt x="0" y="1"/>
                </a:moveTo>
                <a:lnTo>
                  <a:pt x="55" y="17"/>
                </a:lnTo>
                <a:lnTo>
                  <a:pt x="1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56480" y="3525840"/>
            <a:ext cx="30240" cy="31680"/>
          </a:xfrm>
          <a:custGeom>
            <a:avLst/>
            <a:gdLst/>
            <a:ahLst/>
            <a:rect l="l" t="t" r="r" b="b"/>
            <a:pathLst>
              <a:path w="23" h="23">
                <a:moveTo>
                  <a:pt x="4" y="4"/>
                </a:moveTo>
                <a:lnTo>
                  <a:pt x="12" y="0"/>
                </a:lnTo>
                <a:lnTo>
                  <a:pt x="19" y="4"/>
                </a:lnTo>
                <a:lnTo>
                  <a:pt x="23" y="18"/>
                </a:lnTo>
                <a:lnTo>
                  <a:pt x="12" y="23"/>
                </a:lnTo>
                <a:lnTo>
                  <a:pt x="0" y="18"/>
                </a:lnTo>
                <a:lnTo>
                  <a:pt x="4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699240" y="3498840"/>
            <a:ext cx="54000" cy="1440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13" y="8"/>
                </a:lnTo>
                <a:lnTo>
                  <a:pt x="29" y="2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80240" y="3498840"/>
            <a:ext cx="65160" cy="15840"/>
          </a:xfrm>
          <a:custGeom>
            <a:avLst/>
            <a:gdLst/>
            <a:ahLst/>
            <a:rect l="l" t="t" r="r" b="b"/>
            <a:pathLst>
              <a:path w="52" h="11">
                <a:moveTo>
                  <a:pt x="52" y="0"/>
                </a:moveTo>
                <a:lnTo>
                  <a:pt x="21" y="11"/>
                </a:lnTo>
                <a:lnTo>
                  <a:pt x="30" y="0"/>
                </a:lnTo>
                <a:lnTo>
                  <a:pt x="0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62600" y="3456000"/>
            <a:ext cx="17640" cy="50760"/>
          </a:xfrm>
          <a:custGeom>
            <a:avLst/>
            <a:gdLst/>
            <a:ahLst/>
            <a:rect l="l" t="t" r="r" b="b"/>
            <a:pathLst>
              <a:path w="15" h="37">
                <a:moveTo>
                  <a:pt x="8" y="37"/>
                </a:moveTo>
                <a:lnTo>
                  <a:pt x="0" y="14"/>
                </a:lnTo>
                <a:lnTo>
                  <a:pt x="15" y="23"/>
                </a:lnTo>
                <a:lnTo>
                  <a:pt x="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6714720" y="3425760"/>
            <a:ext cx="1908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05360" y="3400200"/>
            <a:ext cx="46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65840" y="2789280"/>
            <a:ext cx="47880" cy="23760"/>
          </a:xfrm>
          <a:custGeom>
            <a:avLst/>
            <a:gdLst/>
            <a:ahLst/>
            <a:rect l="l" t="t" r="r" b="b"/>
            <a:pathLst>
              <a:path w="31" h="14">
                <a:moveTo>
                  <a:pt x="31" y="0"/>
                </a:moveTo>
                <a:lnTo>
                  <a:pt x="24" y="1"/>
                </a:lnTo>
                <a:lnTo>
                  <a:pt x="16" y="4"/>
                </a:lnTo>
                <a:lnTo>
                  <a:pt x="9" y="7"/>
                </a:lnTo>
                <a:lnTo>
                  <a:pt x="4" y="11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65840" y="2813040"/>
            <a:ext cx="47880" cy="25560"/>
          </a:xfrm>
          <a:custGeom>
            <a:avLst/>
            <a:gdLst/>
            <a:ahLst/>
            <a:rect l="l" t="t" r="r" b="b"/>
            <a:pathLst>
              <a:path w="31" h="15">
                <a:moveTo>
                  <a:pt x="31" y="15"/>
                </a:moveTo>
                <a:lnTo>
                  <a:pt x="24" y="14"/>
                </a:lnTo>
                <a:lnTo>
                  <a:pt x="16" y="11"/>
                </a:lnTo>
                <a:lnTo>
                  <a:pt x="9" y="8"/>
                </a:lnTo>
                <a:lnTo>
                  <a:pt x="4" y="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07240" y="2789280"/>
            <a:ext cx="9360" cy="237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0"/>
                </a:moveTo>
                <a:lnTo>
                  <a:pt x="5" y="0"/>
                </a:lnTo>
                <a:lnTo>
                  <a:pt x="4" y="2"/>
                </a:lnTo>
                <a:lnTo>
                  <a:pt x="3" y="6"/>
                </a:lnTo>
                <a:lnTo>
                  <a:pt x="2" y="10"/>
                </a:lnTo>
                <a:lnTo>
                  <a:pt x="0" y="14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07240" y="2813040"/>
            <a:ext cx="9360" cy="25560"/>
          </a:xfrm>
          <a:custGeom>
            <a:avLst/>
            <a:gdLst/>
            <a:ahLst/>
            <a:rect l="l" t="t" r="r" b="b"/>
            <a:pathLst>
              <a:path w="6" h="15">
                <a:moveTo>
                  <a:pt x="6" y="15"/>
                </a:moveTo>
                <a:lnTo>
                  <a:pt x="5" y="15"/>
                </a:lnTo>
                <a:lnTo>
                  <a:pt x="4" y="13"/>
                </a:lnTo>
                <a:lnTo>
                  <a:pt x="3" y="9"/>
                </a:lnTo>
                <a:lnTo>
                  <a:pt x="2" y="5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18400" y="2789280"/>
            <a:ext cx="11160" cy="23760"/>
          </a:xfrm>
          <a:custGeom>
            <a:avLst/>
            <a:gdLst/>
            <a:ahLst/>
            <a:rect l="l" t="t" r="r" b="b"/>
            <a:pathLst>
              <a:path w="6" h="14">
                <a:moveTo>
                  <a:pt x="0" y="0"/>
                </a:moveTo>
                <a:lnTo>
                  <a:pt x="1" y="0"/>
                </a:lnTo>
                <a:lnTo>
                  <a:pt x="3" y="2"/>
                </a:lnTo>
                <a:lnTo>
                  <a:pt x="4" y="6"/>
                </a:lnTo>
                <a:lnTo>
                  <a:pt x="5" y="10"/>
                </a:lnTo>
                <a:lnTo>
                  <a:pt x="6" y="14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18400" y="2813040"/>
            <a:ext cx="11160" cy="25560"/>
          </a:xfrm>
          <a:custGeom>
            <a:avLst/>
            <a:gdLst/>
            <a:ahLst/>
            <a:rect l="l" t="t" r="r" b="b"/>
            <a:pathLst>
              <a:path w="6" h="15">
                <a:moveTo>
                  <a:pt x="0" y="15"/>
                </a:moveTo>
                <a:lnTo>
                  <a:pt x="1" y="15"/>
                </a:lnTo>
                <a:lnTo>
                  <a:pt x="3" y="13"/>
                </a:lnTo>
                <a:lnTo>
                  <a:pt x="4" y="9"/>
                </a:lnTo>
                <a:lnTo>
                  <a:pt x="5" y="5"/>
                </a:lnTo>
                <a:lnTo>
                  <a:pt x="6" y="0"/>
                </a:lnTo>
              </a:path>
            </a:pathLst>
          </a:custGeom>
          <a:noFill/>
          <a:ln w="11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62600" y="2749680"/>
            <a:ext cx="3240" cy="32364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699240" y="2812680"/>
            <a:ext cx="0" cy="2602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699240" y="278136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699240" y="281304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699240" y="2844720"/>
            <a:ext cx="63360" cy="334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99240" y="287820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699240" y="290988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99240" y="290988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699240" y="2941560"/>
            <a:ext cx="63360" cy="3492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699240" y="2941560"/>
            <a:ext cx="63360" cy="3492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699240" y="297648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699240" y="2976480"/>
            <a:ext cx="63360" cy="3168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699240" y="3008160"/>
            <a:ext cx="63360" cy="3204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699240" y="3008160"/>
            <a:ext cx="63360" cy="3204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6699240" y="3040200"/>
            <a:ext cx="63360" cy="3312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699240" y="3040200"/>
            <a:ext cx="63360" cy="33120"/>
          </a:xfrm>
          <a:prstGeom prst="line">
            <a:avLst/>
          </a:prstGeom>
          <a:ln w="11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2960" y="2430360"/>
            <a:ext cx="7380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35800" y="3076560"/>
            <a:ext cx="587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43720" y="3697200"/>
            <a:ext cx="4888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81560" y="1947960"/>
            <a:ext cx="38916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218440" y="1386000"/>
            <a:ext cx="5223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213760" y="2057400"/>
            <a:ext cx="541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215200" y="2760840"/>
            <a:ext cx="513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15200" y="3400560"/>
            <a:ext cx="4874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215200" y="4067280"/>
            <a:ext cx="474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82800" y="2978280"/>
            <a:ext cx="46512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55720" y="2962440"/>
            <a:ext cx="827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73520" y="1736640"/>
            <a:ext cx="34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43040" y="1703520"/>
            <a:ext cx="90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g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901-779D-43A7-B508-8180B80B5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73200" y="88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 Summar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80880" y="1203480"/>
          <a:ext cx="8305920" cy="4956120"/>
        </p:xfrm>
        <a:graphic>
          <a:graphicData uri="http://schemas.openxmlformats.org/drawingml/2006/table">
            <a:tbl>
              <a:tblPr/>
              <a:tblGrid>
                <a:gridCol w="1930680"/>
                <a:gridCol w="2454120"/>
                <a:gridCol w="1450800"/>
                <a:gridCol w="24703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RACT NAM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olicitation #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B-CO-11482-O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FP Release Dat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19,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P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ur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Years with a 12 or 24 month ext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nuary 2006 – December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posal Due Dat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ember 1,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ward Dat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urth Quarter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ime or Su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f Sub, List Prim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Estimated Contrac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alu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ro 70 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Estimated ManTe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alu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ro 47 MM (3 Yea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Euro 23 MM (for 2 option yea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racting Agency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O NC3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tract Typ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m Fixed P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id Typ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ll and Open (NATO countries on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usiness Uni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ch C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General Classifica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D/Marketing Mg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apture Mg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dy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 Val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WinAward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gram Summary (SOW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TO intends to support this increased requirement by outsourcing the design, implementation, operations and maintenance of the current and expected future sites to a commercial company. This has two distinct part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rvices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to the remote locations, Termination of the reach-back link to NATO anchor sites in Europ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1A8-100B-43F0-A064-79124ADAC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04880" y="88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NATO Distin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03400" y="838080"/>
            <a:ext cx="7735680" cy="54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d Bond / Performance Bond / Liquidated Da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m Fixed Price / Euro 70 MM / Cur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First / Compliance N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A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te Surv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 Participation / Teamm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ile Z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earances (CTS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301-B471-42FF-A802-933C5681E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8240" y="88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NATO Distinctions (cont.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yment – 60 Days from Receipt of Invo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yment Schedu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 Recurring” Items – Delivery, installations, Integration,  on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es Stages I, II, III, IV – All Sites in a S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rring” Monthly Service Charges Paid Monthly in Arre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Other Items Not Listed Above Shall be Paid Upon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348-DFD9-4C2B-8C6D-4C7606694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9040" y="104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a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120" y="99864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m with D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 Identified – Dan Val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dders’ Conference – 27 June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ize Tea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NATO Architecture / Add 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te Surveys” Allows for Negotiated Pricing After Contract Aw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6EE-C1C2-4A4F-9455-0416EA10E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36560" y="73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ach (cont.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Being Accomplished by Four SatCom/IT Companies to Analyze Requirements and Provide Technically Compli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ical Team will Evaluate Solutions and Select Compliant Desig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s Technical R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es Best Cos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F8F-4FBF-43AD-B30F-9FB2107062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1047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act Schedu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4098960" y="3086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6680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90440" y="6858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399-6F1D-4402-BB5E-DBF25AC512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4:04:26Z</dcterms:created>
  <dc:creator>ManTech</dc:creator>
  <dc:description/>
  <dc:language>en-US</dc:language>
  <cp:lastModifiedBy>jwkelley</cp:lastModifiedBy>
  <cp:lastPrinted>2003-11-03T16:23:09Z</cp:lastPrinted>
  <dcterms:modified xsi:type="dcterms:W3CDTF">2005-06-23T13:47:50Z</dcterms:modified>
  <cp:revision>49</cp:revision>
  <dc:subject/>
  <dc:title>No Slide Title</dc:title>
</cp:coreProperties>
</file>